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7601-FDFC-4D58-A5A6-9618775A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98F-89C0-44DA-A851-CF98C279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23F-5A4F-4181-A7AE-4633B492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A24B-E14D-45EE-8A8E-FC7CB5FD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251-B2EF-442A-95F1-2FBB4C3C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672A-AAE6-467F-868F-12B3B3A6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4FB7-971F-4C1B-84CD-ADC4F4C6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718-07E9-4F45-A32E-DA3AEBAD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FF0-7273-4BC6-94B0-087318F9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BC6-5A1A-4D16-BA59-FA8EDDCB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EBC-B9DD-4EB4-BC79-E9FEB102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1D0-72D6-4E2F-99B3-CCADDA8C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2800-1C71-404C-BE37-ADC541063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Gaceta del Liceo Naval Militar</a:t>
            </a:r>
            <a:br>
              <a:rPr sz="4400"/>
            </a:b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Rio Santiago 19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Black"/>
              </a:rPr>
              <a:t>CAMPEONATO INT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En las prueba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iclismo Cross-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se impuso el cad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ALBERTO MO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 la oportunidad estrenó su nueva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ici-todo-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e coqueto vehículo se ha impuesto ampliamente para pasear por la avenida Sta Fe, especialmente entre los habitués del Petit Caf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952880" y="1981080"/>
          <a:ext cx="3494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981080"/>
                    <a:ext cx="3494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Sombrilla-ciclus" descr=""/>
          <p:cNvPicPr/>
          <p:nvPr/>
        </p:nvPicPr>
        <p:blipFill>
          <a:blip r:embed="rId3"/>
          <a:stretch/>
        </p:blipFill>
        <p:spPr>
          <a:xfrm>
            <a:off x="4800600" y="1828800"/>
            <a:ext cx="36226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7:46:27Z</dcterms:created>
  <dc:creator>-</dc:creator>
  <dc:description/>
  <dc:language>en-US</dc:language>
  <cp:lastModifiedBy>-</cp:lastModifiedBy>
  <dcterms:modified xsi:type="dcterms:W3CDTF">2002-07-19T16:15:30Z</dcterms:modified>
  <cp:revision>4</cp:revision>
  <dc:subject/>
  <dc:title>Gaceta de Rio Santiago 1955</dc:title>
</cp:coreProperties>
</file>