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BF9-83A3-4AEF-B78C-757F585A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6163-0BF7-4993-95DE-FCC4A460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BCD-6D47-44DF-99CA-0FDE6128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DAE-F578-4910-BD1B-1F4EA818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432A-466C-4689-9306-A92D5BE6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E38-CDC9-4EB1-87D9-2F14A9CD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BB7-AAB2-4684-A946-36EA8CA6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3CA-99A0-41C7-9D0B-5AB4565A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DB1C-F92B-413C-9B30-AE2AA094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E084-A6E7-4BAB-A5AD-0D235AC8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F1BD-C07D-48B7-87E7-800F9754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822E-FEBB-41D7-ABF4-EDCE518C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8437-E359-4F69-9657-3F48F0249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380880"/>
            <a:ext cx="327636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362320" cy="6858000"/>
          </a:xfrm>
          <a:prstGeom prst="rect">
            <a:avLst/>
          </a:prstGeom>
          <a:solidFill>
            <a:srgbClr val="96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celog~1" descr=""/>
          <p:cNvPicPr/>
          <p:nvPr/>
        </p:nvPicPr>
        <p:blipFill>
          <a:blip r:embed="rId1"/>
          <a:stretch/>
        </p:blipFill>
        <p:spPr>
          <a:xfrm>
            <a:off x="304920" y="365040"/>
            <a:ext cx="1371600" cy="1158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6248520"/>
            <a:ext cx="7772400" cy="380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981080"/>
          <a:ext cx="6095880" cy="36482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56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BÁS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érdida Accidental de la v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75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érdida Accidental de la vida en transporte públ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5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S OPCIONALES (2 a elecció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ta diaria por intern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50 di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ermedades crí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nc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ortes Riesgosos (pérdida de la vi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2438280" y="304920"/>
            <a:ext cx="670572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4e5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COBERTURA CL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Rojas &amp; Gad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ahoma"/>
              </a:rPr>
              <a:t>Matricula N°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048120" y="1814400"/>
          <a:ext cx="5105160" cy="37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814400"/>
                    <a:ext cx="5105160" cy="37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133720" y="380880"/>
            <a:ext cx="327636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457200"/>
            <a:ext cx="670572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4e5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COBERTURA CL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Rojas &amp; Gad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ahoma"/>
              </a:rPr>
              <a:t>Matricula N°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2362320" cy="6858000"/>
          </a:xfrm>
          <a:prstGeom prst="rect">
            <a:avLst/>
          </a:prstGeom>
          <a:solidFill>
            <a:srgbClr val="96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celog~1" descr=""/>
          <p:cNvPicPr/>
          <p:nvPr/>
        </p:nvPicPr>
        <p:blipFill>
          <a:blip r:embed="rId3"/>
          <a:stretch/>
        </p:blipFill>
        <p:spPr>
          <a:xfrm>
            <a:off x="304920" y="365040"/>
            <a:ext cx="1371600" cy="1158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080" y="6248520"/>
            <a:ext cx="7772400" cy="380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6:12:04Z</dcterms:created>
  <dc:creator>M.Celeste Valvecchia</dc:creator>
  <dc:description/>
  <dc:language>en-US</dc:language>
  <cp:lastModifiedBy>Juan Carlos Gadano</cp:lastModifiedBy>
  <dcterms:modified xsi:type="dcterms:W3CDTF">2003-01-20T19:55:59Z</dcterms:modified>
  <cp:revision>7</cp:revision>
  <dc:subject/>
  <dc:title>Presentación de PowerPoint</dc:title>
</cp:coreProperties>
</file>