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08413" cy="5335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19E-226D-4EC8-8006-28C7F7BD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474480"/>
            <a:ext cx="3238560" cy="8888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840" y="1541520"/>
            <a:ext cx="323856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840" y="3213360"/>
            <a:ext cx="323856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B81-7F8A-4964-BE94-4C2B8176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474480"/>
            <a:ext cx="3238560" cy="8888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541520"/>
            <a:ext cx="158040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45800" y="1541520"/>
            <a:ext cx="158040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840" y="3213360"/>
            <a:ext cx="158040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45800" y="3213360"/>
            <a:ext cx="158040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B46-B9DF-4581-BD58-EF611886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474480"/>
            <a:ext cx="3238560" cy="8888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840" y="1541520"/>
            <a:ext cx="104256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80960" y="1541520"/>
            <a:ext cx="104256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76080" y="1541520"/>
            <a:ext cx="104256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840" y="3213360"/>
            <a:ext cx="104256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80960" y="3213360"/>
            <a:ext cx="104256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76080" y="3213360"/>
            <a:ext cx="104256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128-7C4B-47AD-AD6D-B3FE6D9E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474480"/>
            <a:ext cx="3238560" cy="8888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840" y="1541520"/>
            <a:ext cx="323856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48E-EB87-4B3F-B16A-6AE499BF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474480"/>
            <a:ext cx="3238560" cy="8888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840" y="1541520"/>
            <a:ext cx="3238560" cy="3200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BF6-E789-4B92-B3AD-251B5F71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474480"/>
            <a:ext cx="3238560" cy="8888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541520"/>
            <a:ext cx="1580400" cy="3200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45800" y="1541520"/>
            <a:ext cx="1580400" cy="3200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11E-0E00-434C-B592-4BDBE382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474480"/>
            <a:ext cx="3238560" cy="8888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006-F0A1-495D-93D4-E1C4F40D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474480"/>
            <a:ext cx="323856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BAA-2F76-42A3-93DD-3B703242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474480"/>
            <a:ext cx="3238560" cy="8888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840" y="1541520"/>
            <a:ext cx="158040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45800" y="1541520"/>
            <a:ext cx="1580400" cy="3200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840" y="3213360"/>
            <a:ext cx="158040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A28-2E33-40F0-9B4A-2771BFEF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474480"/>
            <a:ext cx="3238560" cy="8888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840" y="1541520"/>
            <a:ext cx="1580400" cy="3200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45800" y="1541520"/>
            <a:ext cx="158040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5800" y="3213360"/>
            <a:ext cx="158040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BDF-C9B9-4413-A24C-888DC901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474480"/>
            <a:ext cx="3238560" cy="8888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840" y="1541520"/>
            <a:ext cx="158040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45800" y="1541520"/>
            <a:ext cx="158040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840" y="3213360"/>
            <a:ext cx="3238560" cy="1526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210-F188-4F2C-9F95-F91EA7DE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474480"/>
            <a:ext cx="3238560" cy="8888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541520"/>
            <a:ext cx="3238560" cy="32004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marL="195120" indent="-195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161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52320" indent="-129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914400" indent="-130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176480" indent="-1317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176480" indent="-1317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176480" indent="-1317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5480" y="4859280"/>
            <a:ext cx="793800" cy="355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Autofit/>
          </a:bodyPr>
          <a:lstStyle>
            <a:lvl1pPr indent="0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01400" y="4859280"/>
            <a:ext cx="1206360" cy="355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Autofit/>
          </a:bodyPr>
          <a:lstStyle>
            <a:lvl1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30240" y="4859280"/>
            <a:ext cx="793800" cy="3556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Autofit/>
          </a:bodyPr>
          <a:lstStyle>
            <a:lvl1pPr indent="0" algn="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fld id="{15B1BB7B-2132-4D26-BD39-91F6E28FDC4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85840" y="285840"/>
          <a:ext cx="1676160" cy="14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85840"/>
                    <a:ext cx="1676160" cy="14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71680" y="1204920"/>
            <a:ext cx="2023920" cy="380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5720" y="2397240"/>
            <a:ext cx="3809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428920" y="428760"/>
            <a:ext cx="606240" cy="590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5040" y="1268280"/>
            <a:ext cx="21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omic Sans MS"/>
              </a:rPr>
              <a:t>¿Buscás una oport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1480" y="1531800"/>
            <a:ext cx="20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99ff"/>
                </a:solidFill>
                <a:latin typeface="Comic Sans MS"/>
              </a:rPr>
              <a:t>que te ofrezca má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99ff"/>
                </a:solidFill>
                <a:latin typeface="Comic Sans MS"/>
              </a:rPr>
              <a:t>dinero, tiempo con 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99ff"/>
                </a:solidFill>
                <a:latin typeface="Comic Sans MS"/>
              </a:rPr>
              <a:t>familia y éxito person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3440" y="2219400"/>
            <a:ext cx="313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cc99ff"/>
                </a:solidFill>
                <a:latin typeface="Comic Sans MS"/>
              </a:rPr>
              <a:t>¡Jafra Cosmetics tiene lo que necesitá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cc99ff"/>
                </a:solidFill>
                <a:latin typeface="Comic Sans MS"/>
              </a:rPr>
              <a:t>para iniciar tu propio negocio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0492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6120" y="276120"/>
            <a:ext cx="3276720" cy="48006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760" y="2676600"/>
            <a:ext cx="246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MX" sz="1000" spc="-1" strike="noStrike">
                <a:solidFill>
                  <a:srgbClr val="cc99ff"/>
                </a:solidFill>
                <a:latin typeface="Comic Sans MS"/>
              </a:rPr>
              <a:t>Inversión mín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MX" sz="1000" spc="-1" strike="noStrike">
                <a:solidFill>
                  <a:srgbClr val="cc99ff"/>
                </a:solidFill>
                <a:latin typeface="Comic Sans MS"/>
              </a:rPr>
              <a:t>Crédito dispon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MX" sz="1000" spc="-1" strike="noStrike">
                <a:solidFill>
                  <a:srgbClr val="cc99ff"/>
                </a:solidFill>
                <a:latin typeface="Comic Sans MS"/>
              </a:rPr>
              <a:t>Atractivas gananc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MX" sz="1000" spc="-1" strike="noStrike">
                <a:solidFill>
                  <a:srgbClr val="cc99ff"/>
                </a:solidFill>
                <a:latin typeface="Comic Sans MS"/>
              </a:rPr>
              <a:t>Productos cosméticos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MX" sz="1000" spc="-1" strike="noStrike">
                <a:solidFill>
                  <a:srgbClr val="cc99ff"/>
                </a:solidFill>
                <a:latin typeface="Comic Sans MS"/>
              </a:rPr>
              <a:t>Capacitación para iniciar tu nego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MX" sz="1000" spc="-1" strike="noStrike">
                <a:solidFill>
                  <a:srgbClr val="cc99ff"/>
                </a:solidFill>
                <a:latin typeface="Comic Sans MS"/>
              </a:rPr>
              <a:t>Promociones e incentiv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8960" y="3743280"/>
            <a:ext cx="3186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99ff"/>
                </a:solidFill>
                <a:latin typeface="Comic Sans MS"/>
              </a:rPr>
              <a:t>¡No esperes más – llamá hoy mismo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99ff"/>
                </a:solidFill>
                <a:latin typeface="Comic Sans MS"/>
              </a:rPr>
              <a:t>María Cecilia Argerich – 4785-2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99ff"/>
                </a:solidFill>
                <a:latin typeface="Comic Sans MS"/>
              </a:rPr>
              <a:t>cecilia_argerich@fibertel.com.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9720" y="4629240"/>
            <a:ext cx="303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cc99ff"/>
                </a:solidFill>
                <a:latin typeface="Comic Sans MS"/>
              </a:rPr>
              <a:t>Nota: aquellas</a:t>
            </a:r>
            <a:r>
              <a:rPr b="0" lang="es-ES" sz="8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MX" sz="800" spc="-1" strike="noStrike">
                <a:solidFill>
                  <a:srgbClr val="cc99ff"/>
                </a:solidFill>
                <a:latin typeface="Comic Sans MS"/>
              </a:rPr>
              <a:t>personas</a:t>
            </a:r>
            <a:r>
              <a:rPr b="0" lang="es-ES" sz="800" spc="-1" strike="noStrike">
                <a:solidFill>
                  <a:srgbClr val="cc99ff"/>
                </a:solidFill>
                <a:latin typeface="Comic Sans MS"/>
              </a:rPr>
              <a:t> que no </a:t>
            </a:r>
            <a:r>
              <a:rPr b="0" lang="es-MX" sz="800" spc="-1" strike="noStrike">
                <a:solidFill>
                  <a:srgbClr val="cc99ff"/>
                </a:solidFill>
                <a:latin typeface="Comic Sans MS"/>
              </a:rPr>
              <a:t>tengan interés en es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cc99ff"/>
                </a:solidFill>
                <a:latin typeface="Comic Sans MS"/>
              </a:rPr>
              <a:t>emprendimiento, </a:t>
            </a:r>
            <a:r>
              <a:rPr b="0" lang="es-ES" sz="800" spc="-1" strike="noStrike">
                <a:solidFill>
                  <a:srgbClr val="cc99ff"/>
                </a:solidFill>
                <a:latin typeface="Comic Sans MS"/>
              </a:rPr>
              <a:t>pueden enviarnos</a:t>
            </a:r>
            <a:r>
              <a:rPr b="0" lang="es-MX" sz="8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ES" sz="800" spc="-1" strike="noStrike">
                <a:solidFill>
                  <a:srgbClr val="cc99ff"/>
                </a:solidFill>
                <a:latin typeface="Comic Sans MS"/>
              </a:rPr>
              <a:t>referidos que </a:t>
            </a:r>
            <a:r>
              <a:rPr b="0" lang="es-MX" sz="800" spc="-1" strike="noStrike">
                <a:solidFill>
                  <a:srgbClr val="cc99ff"/>
                </a:solidFill>
                <a:latin typeface="Comic Sans MS"/>
              </a:rPr>
              <a:t>pudier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cc99ff"/>
                </a:solidFill>
                <a:latin typeface="Comic Sans MS"/>
              </a:rPr>
              <a:t>estar </a:t>
            </a:r>
            <a:r>
              <a:rPr b="0" lang="es-ES" sz="800" spc="-1" strike="noStrike">
                <a:solidFill>
                  <a:srgbClr val="cc99ff"/>
                </a:solidFill>
                <a:latin typeface="Comic Sans MS"/>
              </a:rPr>
              <a:t>interesados</a:t>
            </a:r>
            <a:r>
              <a:rPr b="0" lang="es-MX" sz="800" spc="-1" strike="noStrike">
                <a:solidFill>
                  <a:srgbClr val="cc99ff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9T14:31:36Z</dcterms:created>
  <dc:creator>Fernando</dc:creator>
  <dc:description/>
  <dc:language>en-US</dc:language>
  <cp:lastModifiedBy>Fernando</cp:lastModifiedBy>
  <dcterms:modified xsi:type="dcterms:W3CDTF">2003-07-01T19:59:03Z</dcterms:modified>
  <cp:revision>11</cp:revision>
  <dc:subject/>
  <dc:title>Presentación de PowerPoint</dc:title>
</cp:coreProperties>
</file>