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880" y="2514600"/>
            <a:ext cx="7788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77880" y="3947400"/>
            <a:ext cx="7788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880" y="2514600"/>
            <a:ext cx="3800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840" y="2514600"/>
            <a:ext cx="3800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880" y="3947400"/>
            <a:ext cx="3800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840" y="3947400"/>
            <a:ext cx="3800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7880" y="2514600"/>
            <a:ext cx="25074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0920" y="2514600"/>
            <a:ext cx="25074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4320" y="2514600"/>
            <a:ext cx="25074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77880" y="3947400"/>
            <a:ext cx="25074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0920" y="3947400"/>
            <a:ext cx="25074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4320" y="3947400"/>
            <a:ext cx="25074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77880" y="2514600"/>
            <a:ext cx="7788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2514600"/>
            <a:ext cx="7788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7880" y="2514600"/>
            <a:ext cx="3800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840" y="2514600"/>
            <a:ext cx="3800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80920" y="1066320"/>
            <a:ext cx="73821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7880" y="2514600"/>
            <a:ext cx="3800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840" y="2514600"/>
            <a:ext cx="3800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77880" y="3947400"/>
            <a:ext cx="3800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880" y="2514600"/>
            <a:ext cx="3800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840" y="2514600"/>
            <a:ext cx="3800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840" y="3947400"/>
            <a:ext cx="3800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880" y="2514600"/>
            <a:ext cx="3800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2514600"/>
            <a:ext cx="3800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880" y="3947400"/>
            <a:ext cx="7788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77880" y="2514600"/>
            <a:ext cx="7788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ru97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ru97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  <a:p>
            <a:pPr lvl="2" marL="857160" indent="-1713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ru97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  <a:p>
            <a:pPr lvl="3" marL="1199880" indent="-1713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ru97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  <a:p>
            <a:pPr lvl="4" marL="1542960" indent="-1713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ru97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  <a:p>
            <a:pPr lvl="5" marL="1542960" indent="-171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ru97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  <a:p>
            <a:pPr lvl="6" marL="1542960" indent="-171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ru97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Pru97"/>
            </a:endParaRPr>
          </a:p>
        </p:txBody>
      </p:sp>
      <p:sp>
        <p:nvSpPr>
          <p:cNvPr id="1" name=""/>
          <p:cNvSpPr/>
          <p:nvPr/>
        </p:nvSpPr>
        <p:spPr>
          <a:xfrm>
            <a:off x="6248520" y="228600"/>
            <a:ext cx="265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880920" y="1066320"/>
            <a:ext cx="738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ru97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Pru97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752480" y="914400"/>
            <a:ext cx="5714640" cy="5714640"/>
            <a:chOff x="1752480" y="914400"/>
            <a:chExt cx="5714640" cy="5714640"/>
          </a:xfrm>
        </p:grpSpPr>
        <p:sp>
          <p:nvSpPr>
            <p:cNvPr id="4" name=""/>
            <p:cNvSpPr/>
            <p:nvPr/>
          </p:nvSpPr>
          <p:spPr>
            <a:xfrm>
              <a:off x="5973120" y="3491280"/>
              <a:ext cx="556920" cy="897480"/>
            </a:xfrm>
            <a:custGeom>
              <a:avLst/>
              <a:gdLst/>
              <a:ahLst/>
              <a:rect l="l" t="t" r="r" b="b"/>
              <a:pathLst>
                <a:path w="381" h="656">
                  <a:moveTo>
                    <a:pt x="139" y="638"/>
                  </a:moveTo>
                  <a:lnTo>
                    <a:pt x="0" y="655"/>
                  </a:lnTo>
                  <a:lnTo>
                    <a:pt x="34" y="378"/>
                  </a:lnTo>
                  <a:lnTo>
                    <a:pt x="0" y="325"/>
                  </a:lnTo>
                  <a:lnTo>
                    <a:pt x="34" y="0"/>
                  </a:lnTo>
                  <a:lnTo>
                    <a:pt x="380" y="148"/>
                  </a:lnTo>
                  <a:lnTo>
                    <a:pt x="139" y="638"/>
                  </a:lnTo>
                </a:path>
              </a:pathLst>
            </a:custGeom>
            <a:solidFill>
              <a:srgbClr val="dcdc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74800" y="3933000"/>
              <a:ext cx="1192320" cy="1602720"/>
            </a:xfrm>
            <a:custGeom>
              <a:avLst/>
              <a:gdLst/>
              <a:ahLst/>
              <a:rect l="l" t="t" r="r" b="b"/>
              <a:pathLst>
                <a:path w="815" h="1171">
                  <a:moveTo>
                    <a:pt x="441" y="1170"/>
                  </a:moveTo>
                  <a:lnTo>
                    <a:pt x="0" y="1170"/>
                  </a:lnTo>
                  <a:lnTo>
                    <a:pt x="422" y="461"/>
                  </a:lnTo>
                  <a:lnTo>
                    <a:pt x="542" y="0"/>
                  </a:lnTo>
                  <a:lnTo>
                    <a:pt x="814" y="102"/>
                  </a:lnTo>
                  <a:lnTo>
                    <a:pt x="806" y="234"/>
                  </a:lnTo>
                  <a:lnTo>
                    <a:pt x="779" y="370"/>
                  </a:lnTo>
                  <a:lnTo>
                    <a:pt x="751" y="498"/>
                  </a:lnTo>
                  <a:lnTo>
                    <a:pt x="736" y="576"/>
                  </a:lnTo>
                  <a:lnTo>
                    <a:pt x="709" y="638"/>
                  </a:lnTo>
                  <a:lnTo>
                    <a:pt x="658" y="774"/>
                  </a:lnTo>
                  <a:lnTo>
                    <a:pt x="596" y="902"/>
                  </a:lnTo>
                  <a:lnTo>
                    <a:pt x="527" y="1042"/>
                  </a:lnTo>
                  <a:lnTo>
                    <a:pt x="441" y="1170"/>
                  </a:lnTo>
                </a:path>
              </a:pathLst>
            </a:custGeom>
            <a:solidFill>
              <a:srgbClr val="dcdc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665320" y="3746880"/>
              <a:ext cx="1333800" cy="1788840"/>
            </a:xfrm>
            <a:custGeom>
              <a:avLst/>
              <a:gdLst/>
              <a:ahLst/>
              <a:rect l="l" t="t" r="r" b="b"/>
              <a:pathLst>
                <a:path w="912" h="1307">
                  <a:moveTo>
                    <a:pt x="721" y="568"/>
                  </a:moveTo>
                  <a:lnTo>
                    <a:pt x="554" y="729"/>
                  </a:lnTo>
                  <a:lnTo>
                    <a:pt x="213" y="1306"/>
                  </a:lnTo>
                  <a:lnTo>
                    <a:pt x="0" y="1306"/>
                  </a:lnTo>
                  <a:lnTo>
                    <a:pt x="213" y="894"/>
                  </a:lnTo>
                  <a:lnTo>
                    <a:pt x="391" y="737"/>
                  </a:lnTo>
                  <a:lnTo>
                    <a:pt x="639" y="0"/>
                  </a:lnTo>
                  <a:lnTo>
                    <a:pt x="911" y="111"/>
                  </a:lnTo>
                  <a:lnTo>
                    <a:pt x="721" y="568"/>
                  </a:lnTo>
                </a:path>
              </a:pathLst>
            </a:custGeom>
            <a:solidFill>
              <a:srgbClr val="dcdc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016240" y="4603680"/>
              <a:ext cx="822600" cy="932040"/>
            </a:xfrm>
            <a:custGeom>
              <a:avLst/>
              <a:gdLst/>
              <a:ahLst/>
              <a:rect l="l" t="t" r="r" b="b"/>
              <a:pathLst>
                <a:path w="563" h="681">
                  <a:moveTo>
                    <a:pt x="279" y="680"/>
                  </a:moveTo>
                  <a:lnTo>
                    <a:pt x="0" y="680"/>
                  </a:lnTo>
                  <a:lnTo>
                    <a:pt x="511" y="0"/>
                  </a:lnTo>
                  <a:lnTo>
                    <a:pt x="562" y="103"/>
                  </a:lnTo>
                  <a:lnTo>
                    <a:pt x="279" y="680"/>
                  </a:lnTo>
                </a:path>
              </a:pathLst>
            </a:custGeom>
            <a:solidFill>
              <a:srgbClr val="dcdc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81760" y="5607000"/>
              <a:ext cx="4460760" cy="1022040"/>
            </a:xfrm>
            <a:custGeom>
              <a:avLst/>
              <a:gdLst/>
              <a:ahLst/>
              <a:rect l="l" t="t" r="r" b="b"/>
              <a:pathLst>
                <a:path w="3050" h="747">
                  <a:moveTo>
                    <a:pt x="1522" y="746"/>
                  </a:moveTo>
                  <a:lnTo>
                    <a:pt x="1437" y="746"/>
                  </a:lnTo>
                  <a:lnTo>
                    <a:pt x="1336" y="737"/>
                  </a:lnTo>
                  <a:lnTo>
                    <a:pt x="1142" y="708"/>
                  </a:lnTo>
                  <a:lnTo>
                    <a:pt x="1038" y="692"/>
                  </a:lnTo>
                  <a:lnTo>
                    <a:pt x="945" y="663"/>
                  </a:lnTo>
                  <a:lnTo>
                    <a:pt x="836" y="626"/>
                  </a:lnTo>
                  <a:lnTo>
                    <a:pt x="743" y="581"/>
                  </a:lnTo>
                  <a:lnTo>
                    <a:pt x="643" y="531"/>
                  </a:lnTo>
                  <a:lnTo>
                    <a:pt x="546" y="478"/>
                  </a:lnTo>
                  <a:lnTo>
                    <a:pt x="449" y="424"/>
                  </a:lnTo>
                  <a:lnTo>
                    <a:pt x="352" y="350"/>
                  </a:lnTo>
                  <a:lnTo>
                    <a:pt x="259" y="276"/>
                  </a:lnTo>
                  <a:lnTo>
                    <a:pt x="174" y="193"/>
                  </a:lnTo>
                  <a:lnTo>
                    <a:pt x="85" y="98"/>
                  </a:lnTo>
                  <a:lnTo>
                    <a:pt x="0" y="0"/>
                  </a:lnTo>
                  <a:lnTo>
                    <a:pt x="3049" y="0"/>
                  </a:lnTo>
                  <a:lnTo>
                    <a:pt x="2979" y="82"/>
                  </a:lnTo>
                  <a:lnTo>
                    <a:pt x="2897" y="168"/>
                  </a:lnTo>
                  <a:lnTo>
                    <a:pt x="2820" y="247"/>
                  </a:lnTo>
                  <a:lnTo>
                    <a:pt x="2742" y="321"/>
                  </a:lnTo>
                  <a:lnTo>
                    <a:pt x="2649" y="387"/>
                  </a:lnTo>
                  <a:lnTo>
                    <a:pt x="2564" y="449"/>
                  </a:lnTo>
                  <a:lnTo>
                    <a:pt x="2514" y="478"/>
                  </a:lnTo>
                  <a:lnTo>
                    <a:pt x="2463" y="502"/>
                  </a:lnTo>
                  <a:lnTo>
                    <a:pt x="2363" y="556"/>
                  </a:lnTo>
                  <a:lnTo>
                    <a:pt x="2270" y="601"/>
                  </a:lnTo>
                  <a:lnTo>
                    <a:pt x="2165" y="634"/>
                  </a:lnTo>
                  <a:lnTo>
                    <a:pt x="2057" y="671"/>
                  </a:lnTo>
                  <a:lnTo>
                    <a:pt x="1948" y="700"/>
                  </a:lnTo>
                  <a:lnTo>
                    <a:pt x="1844" y="717"/>
                  </a:lnTo>
                  <a:lnTo>
                    <a:pt x="1743" y="737"/>
                  </a:lnTo>
                  <a:lnTo>
                    <a:pt x="1634" y="746"/>
                  </a:lnTo>
                  <a:lnTo>
                    <a:pt x="1522" y="746"/>
                  </a:lnTo>
                </a:path>
              </a:pathLst>
            </a:custGeom>
            <a:solidFill>
              <a:srgbClr val="dcdc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52480" y="914400"/>
              <a:ext cx="5702760" cy="4625640"/>
            </a:xfrm>
            <a:custGeom>
              <a:avLst/>
              <a:gdLst/>
              <a:ahLst/>
              <a:rect l="l" t="t" r="r" b="b"/>
              <a:pathLst>
                <a:path w="3899" h="3380">
                  <a:moveTo>
                    <a:pt x="213" y="3045"/>
                  </a:moveTo>
                  <a:lnTo>
                    <a:pt x="189" y="2999"/>
                  </a:lnTo>
                  <a:lnTo>
                    <a:pt x="127" y="2855"/>
                  </a:lnTo>
                  <a:lnTo>
                    <a:pt x="104" y="2773"/>
                  </a:lnTo>
                  <a:lnTo>
                    <a:pt x="77" y="2686"/>
                  </a:lnTo>
                  <a:lnTo>
                    <a:pt x="34" y="2493"/>
                  </a:lnTo>
                  <a:lnTo>
                    <a:pt x="19" y="2394"/>
                  </a:lnTo>
                  <a:lnTo>
                    <a:pt x="7" y="2278"/>
                  </a:lnTo>
                  <a:lnTo>
                    <a:pt x="0" y="2163"/>
                  </a:lnTo>
                  <a:lnTo>
                    <a:pt x="0" y="2043"/>
                  </a:lnTo>
                  <a:lnTo>
                    <a:pt x="0" y="1953"/>
                  </a:lnTo>
                  <a:lnTo>
                    <a:pt x="7" y="1858"/>
                  </a:lnTo>
                  <a:lnTo>
                    <a:pt x="27" y="1763"/>
                  </a:lnTo>
                  <a:lnTo>
                    <a:pt x="34" y="1673"/>
                  </a:lnTo>
                  <a:lnTo>
                    <a:pt x="61" y="1582"/>
                  </a:lnTo>
                  <a:lnTo>
                    <a:pt x="85" y="1491"/>
                  </a:lnTo>
                  <a:lnTo>
                    <a:pt x="112" y="1396"/>
                  </a:lnTo>
                  <a:lnTo>
                    <a:pt x="147" y="1306"/>
                  </a:lnTo>
                  <a:lnTo>
                    <a:pt x="228" y="1133"/>
                  </a:lnTo>
                  <a:lnTo>
                    <a:pt x="271" y="1038"/>
                  </a:lnTo>
                  <a:lnTo>
                    <a:pt x="321" y="956"/>
                  </a:lnTo>
                  <a:lnTo>
                    <a:pt x="371" y="873"/>
                  </a:lnTo>
                  <a:lnTo>
                    <a:pt x="433" y="799"/>
                  </a:lnTo>
                  <a:lnTo>
                    <a:pt x="492" y="717"/>
                  </a:lnTo>
                  <a:lnTo>
                    <a:pt x="554" y="642"/>
                  </a:lnTo>
                  <a:lnTo>
                    <a:pt x="623" y="576"/>
                  </a:lnTo>
                  <a:lnTo>
                    <a:pt x="693" y="502"/>
                  </a:lnTo>
                  <a:lnTo>
                    <a:pt x="771" y="440"/>
                  </a:lnTo>
                  <a:lnTo>
                    <a:pt x="848" y="383"/>
                  </a:lnTo>
                  <a:lnTo>
                    <a:pt x="926" y="321"/>
                  </a:lnTo>
                  <a:lnTo>
                    <a:pt x="1015" y="276"/>
                  </a:lnTo>
                  <a:lnTo>
                    <a:pt x="1100" y="222"/>
                  </a:lnTo>
                  <a:lnTo>
                    <a:pt x="1185" y="173"/>
                  </a:lnTo>
                  <a:lnTo>
                    <a:pt x="1282" y="135"/>
                  </a:lnTo>
                  <a:lnTo>
                    <a:pt x="1375" y="98"/>
                  </a:lnTo>
                  <a:lnTo>
                    <a:pt x="1484" y="70"/>
                  </a:lnTo>
                  <a:lnTo>
                    <a:pt x="1584" y="45"/>
                  </a:lnTo>
                  <a:lnTo>
                    <a:pt x="1689" y="24"/>
                  </a:lnTo>
                  <a:lnTo>
                    <a:pt x="1739" y="16"/>
                  </a:lnTo>
                  <a:lnTo>
                    <a:pt x="1794" y="8"/>
                  </a:lnTo>
                  <a:lnTo>
                    <a:pt x="1906" y="0"/>
                  </a:lnTo>
                  <a:lnTo>
                    <a:pt x="2018" y="0"/>
                  </a:lnTo>
                  <a:lnTo>
                    <a:pt x="2119" y="0"/>
                  </a:lnTo>
                  <a:lnTo>
                    <a:pt x="2227" y="8"/>
                  </a:lnTo>
                  <a:lnTo>
                    <a:pt x="2328" y="16"/>
                  </a:lnTo>
                  <a:lnTo>
                    <a:pt x="2425" y="32"/>
                  </a:lnTo>
                  <a:lnTo>
                    <a:pt x="2518" y="61"/>
                  </a:lnTo>
                  <a:lnTo>
                    <a:pt x="2619" y="90"/>
                  </a:lnTo>
                  <a:lnTo>
                    <a:pt x="2704" y="115"/>
                  </a:lnTo>
                  <a:lnTo>
                    <a:pt x="2789" y="152"/>
                  </a:lnTo>
                  <a:lnTo>
                    <a:pt x="2867" y="201"/>
                  </a:lnTo>
                  <a:lnTo>
                    <a:pt x="2944" y="239"/>
                  </a:lnTo>
                  <a:lnTo>
                    <a:pt x="3092" y="329"/>
                  </a:lnTo>
                  <a:lnTo>
                    <a:pt x="3161" y="383"/>
                  </a:lnTo>
                  <a:lnTo>
                    <a:pt x="3231" y="440"/>
                  </a:lnTo>
                  <a:lnTo>
                    <a:pt x="3289" y="494"/>
                  </a:lnTo>
                  <a:lnTo>
                    <a:pt x="3351" y="548"/>
                  </a:lnTo>
                  <a:lnTo>
                    <a:pt x="3413" y="613"/>
                  </a:lnTo>
                  <a:lnTo>
                    <a:pt x="3464" y="671"/>
                  </a:lnTo>
                  <a:lnTo>
                    <a:pt x="3568" y="791"/>
                  </a:lnTo>
                  <a:lnTo>
                    <a:pt x="3653" y="918"/>
                  </a:lnTo>
                  <a:lnTo>
                    <a:pt x="3688" y="980"/>
                  </a:lnTo>
                  <a:lnTo>
                    <a:pt x="3723" y="1038"/>
                  </a:lnTo>
                  <a:lnTo>
                    <a:pt x="3785" y="1170"/>
                  </a:lnTo>
                  <a:lnTo>
                    <a:pt x="3812" y="1223"/>
                  </a:lnTo>
                  <a:lnTo>
                    <a:pt x="3839" y="1277"/>
                  </a:lnTo>
                  <a:lnTo>
                    <a:pt x="3863" y="1330"/>
                  </a:lnTo>
                  <a:lnTo>
                    <a:pt x="3882" y="1388"/>
                  </a:lnTo>
                  <a:lnTo>
                    <a:pt x="3898" y="1491"/>
                  </a:lnTo>
                  <a:lnTo>
                    <a:pt x="2875" y="1195"/>
                  </a:lnTo>
                  <a:lnTo>
                    <a:pt x="1991" y="655"/>
                  </a:lnTo>
                  <a:lnTo>
                    <a:pt x="1670" y="585"/>
                  </a:lnTo>
                  <a:lnTo>
                    <a:pt x="1670" y="836"/>
                  </a:lnTo>
                  <a:lnTo>
                    <a:pt x="1914" y="1087"/>
                  </a:lnTo>
                  <a:lnTo>
                    <a:pt x="1569" y="1059"/>
                  </a:lnTo>
                  <a:lnTo>
                    <a:pt x="1611" y="1104"/>
                  </a:lnTo>
                  <a:lnTo>
                    <a:pt x="1871" y="1396"/>
                  </a:lnTo>
                  <a:lnTo>
                    <a:pt x="3188" y="1627"/>
                  </a:lnTo>
                  <a:lnTo>
                    <a:pt x="3421" y="1792"/>
                  </a:lnTo>
                  <a:lnTo>
                    <a:pt x="2824" y="1821"/>
                  </a:lnTo>
                  <a:lnTo>
                    <a:pt x="2568" y="2789"/>
                  </a:lnTo>
                  <a:lnTo>
                    <a:pt x="1755" y="3370"/>
                  </a:lnTo>
                  <a:lnTo>
                    <a:pt x="1220" y="3370"/>
                  </a:lnTo>
                  <a:lnTo>
                    <a:pt x="1406" y="2991"/>
                  </a:lnTo>
                  <a:lnTo>
                    <a:pt x="1367" y="2983"/>
                  </a:lnTo>
                  <a:lnTo>
                    <a:pt x="891" y="3370"/>
                  </a:lnTo>
                  <a:lnTo>
                    <a:pt x="778" y="3370"/>
                  </a:lnTo>
                  <a:lnTo>
                    <a:pt x="1263" y="2629"/>
                  </a:lnTo>
                  <a:lnTo>
                    <a:pt x="1282" y="2521"/>
                  </a:lnTo>
                  <a:lnTo>
                    <a:pt x="1290" y="2447"/>
                  </a:lnTo>
                  <a:lnTo>
                    <a:pt x="1305" y="2142"/>
                  </a:lnTo>
                  <a:lnTo>
                    <a:pt x="1228" y="2035"/>
                  </a:lnTo>
                  <a:lnTo>
                    <a:pt x="1042" y="2843"/>
                  </a:lnTo>
                  <a:lnTo>
                    <a:pt x="623" y="3370"/>
                  </a:lnTo>
                  <a:lnTo>
                    <a:pt x="519" y="3370"/>
                  </a:lnTo>
                  <a:lnTo>
                    <a:pt x="763" y="2999"/>
                  </a:lnTo>
                  <a:lnTo>
                    <a:pt x="1108" y="1895"/>
                  </a:lnTo>
                  <a:lnTo>
                    <a:pt x="1022" y="1932"/>
                  </a:lnTo>
                  <a:lnTo>
                    <a:pt x="864" y="2377"/>
                  </a:lnTo>
                  <a:lnTo>
                    <a:pt x="763" y="2439"/>
                  </a:lnTo>
                  <a:lnTo>
                    <a:pt x="623" y="2789"/>
                  </a:lnTo>
                  <a:lnTo>
                    <a:pt x="499" y="3098"/>
                  </a:lnTo>
                  <a:lnTo>
                    <a:pt x="399" y="3379"/>
                  </a:lnTo>
                  <a:lnTo>
                    <a:pt x="321" y="3267"/>
                  </a:lnTo>
                  <a:lnTo>
                    <a:pt x="251" y="3135"/>
                  </a:lnTo>
                  <a:lnTo>
                    <a:pt x="213" y="3045"/>
                  </a:lnTo>
                  <a:lnTo>
                    <a:pt x="321" y="2946"/>
                  </a:lnTo>
                  <a:lnTo>
                    <a:pt x="348" y="2991"/>
                  </a:lnTo>
                  <a:lnTo>
                    <a:pt x="399" y="3090"/>
                  </a:lnTo>
                  <a:lnTo>
                    <a:pt x="898" y="1656"/>
                  </a:lnTo>
                  <a:lnTo>
                    <a:pt x="976" y="1619"/>
                  </a:lnTo>
                  <a:lnTo>
                    <a:pt x="1030" y="1590"/>
                  </a:lnTo>
                  <a:lnTo>
                    <a:pt x="1057" y="1582"/>
                  </a:lnTo>
                  <a:lnTo>
                    <a:pt x="1282" y="972"/>
                  </a:lnTo>
                  <a:lnTo>
                    <a:pt x="1429" y="890"/>
                  </a:lnTo>
                  <a:lnTo>
                    <a:pt x="1604" y="486"/>
                  </a:lnTo>
                  <a:lnTo>
                    <a:pt x="1999" y="560"/>
                  </a:lnTo>
                  <a:lnTo>
                    <a:pt x="2797" y="1026"/>
                  </a:lnTo>
                  <a:lnTo>
                    <a:pt x="3688" y="1298"/>
                  </a:lnTo>
                  <a:lnTo>
                    <a:pt x="3646" y="1178"/>
                  </a:lnTo>
                  <a:lnTo>
                    <a:pt x="3619" y="1124"/>
                  </a:lnTo>
                  <a:lnTo>
                    <a:pt x="3584" y="1067"/>
                  </a:lnTo>
                  <a:lnTo>
                    <a:pt x="3518" y="956"/>
                  </a:lnTo>
                  <a:lnTo>
                    <a:pt x="3448" y="844"/>
                  </a:lnTo>
                  <a:lnTo>
                    <a:pt x="3405" y="799"/>
                  </a:lnTo>
                  <a:lnTo>
                    <a:pt x="3359" y="745"/>
                  </a:lnTo>
                  <a:lnTo>
                    <a:pt x="3274" y="655"/>
                  </a:lnTo>
                  <a:lnTo>
                    <a:pt x="3169" y="560"/>
                  </a:lnTo>
                  <a:lnTo>
                    <a:pt x="3119" y="510"/>
                  </a:lnTo>
                  <a:lnTo>
                    <a:pt x="3068" y="478"/>
                  </a:lnTo>
                  <a:lnTo>
                    <a:pt x="3006" y="440"/>
                  </a:lnTo>
                  <a:lnTo>
                    <a:pt x="2952" y="403"/>
                  </a:lnTo>
                  <a:lnTo>
                    <a:pt x="2832" y="329"/>
                  </a:lnTo>
                  <a:lnTo>
                    <a:pt x="2712" y="276"/>
                  </a:lnTo>
                  <a:lnTo>
                    <a:pt x="2580" y="230"/>
                  </a:lnTo>
                  <a:lnTo>
                    <a:pt x="2510" y="201"/>
                  </a:lnTo>
                  <a:lnTo>
                    <a:pt x="2441" y="181"/>
                  </a:lnTo>
                  <a:lnTo>
                    <a:pt x="2305" y="152"/>
                  </a:lnTo>
                  <a:lnTo>
                    <a:pt x="2162" y="135"/>
                  </a:lnTo>
                  <a:lnTo>
                    <a:pt x="2018" y="127"/>
                  </a:lnTo>
                  <a:lnTo>
                    <a:pt x="1914" y="135"/>
                  </a:lnTo>
                  <a:lnTo>
                    <a:pt x="1813" y="144"/>
                  </a:lnTo>
                  <a:lnTo>
                    <a:pt x="1704" y="152"/>
                  </a:lnTo>
                  <a:lnTo>
                    <a:pt x="1611" y="173"/>
                  </a:lnTo>
                  <a:lnTo>
                    <a:pt x="1515" y="201"/>
                  </a:lnTo>
                  <a:lnTo>
                    <a:pt x="1422" y="230"/>
                  </a:lnTo>
                  <a:lnTo>
                    <a:pt x="1332" y="267"/>
                  </a:lnTo>
                  <a:lnTo>
                    <a:pt x="1247" y="304"/>
                  </a:lnTo>
                  <a:lnTo>
                    <a:pt x="1162" y="337"/>
                  </a:lnTo>
                  <a:lnTo>
                    <a:pt x="1077" y="383"/>
                  </a:lnTo>
                  <a:lnTo>
                    <a:pt x="999" y="440"/>
                  </a:lnTo>
                  <a:lnTo>
                    <a:pt x="926" y="494"/>
                  </a:lnTo>
                  <a:lnTo>
                    <a:pt x="848" y="548"/>
                  </a:lnTo>
                  <a:lnTo>
                    <a:pt x="778" y="613"/>
                  </a:lnTo>
                  <a:lnTo>
                    <a:pt x="720" y="679"/>
                  </a:lnTo>
                  <a:lnTo>
                    <a:pt x="650" y="745"/>
                  </a:lnTo>
                  <a:lnTo>
                    <a:pt x="588" y="807"/>
                  </a:lnTo>
                  <a:lnTo>
                    <a:pt x="534" y="881"/>
                  </a:lnTo>
                  <a:lnTo>
                    <a:pt x="484" y="956"/>
                  </a:lnTo>
                  <a:lnTo>
                    <a:pt x="433" y="1026"/>
                  </a:lnTo>
                  <a:lnTo>
                    <a:pt x="391" y="1112"/>
                  </a:lnTo>
                  <a:lnTo>
                    <a:pt x="348" y="1195"/>
                  </a:lnTo>
                  <a:lnTo>
                    <a:pt x="313" y="1269"/>
                  </a:lnTo>
                  <a:lnTo>
                    <a:pt x="278" y="1351"/>
                  </a:lnTo>
                  <a:lnTo>
                    <a:pt x="216" y="1528"/>
                  </a:lnTo>
                  <a:lnTo>
                    <a:pt x="189" y="1611"/>
                  </a:lnTo>
                  <a:lnTo>
                    <a:pt x="170" y="1701"/>
                  </a:lnTo>
                  <a:lnTo>
                    <a:pt x="147" y="1866"/>
                  </a:lnTo>
                  <a:lnTo>
                    <a:pt x="139" y="1961"/>
                  </a:lnTo>
                  <a:lnTo>
                    <a:pt x="139" y="2043"/>
                  </a:lnTo>
                  <a:lnTo>
                    <a:pt x="139" y="2142"/>
                  </a:lnTo>
                  <a:lnTo>
                    <a:pt x="147" y="2233"/>
                  </a:lnTo>
                  <a:lnTo>
                    <a:pt x="162" y="2394"/>
                  </a:lnTo>
                  <a:lnTo>
                    <a:pt x="182" y="2538"/>
                  </a:lnTo>
                  <a:lnTo>
                    <a:pt x="201" y="2604"/>
                  </a:lnTo>
                  <a:lnTo>
                    <a:pt x="216" y="2666"/>
                  </a:lnTo>
                  <a:lnTo>
                    <a:pt x="236" y="2732"/>
                  </a:lnTo>
                  <a:lnTo>
                    <a:pt x="263" y="2789"/>
                  </a:lnTo>
                  <a:lnTo>
                    <a:pt x="294" y="2900"/>
                  </a:lnTo>
                  <a:lnTo>
                    <a:pt x="306" y="2917"/>
                  </a:lnTo>
                  <a:lnTo>
                    <a:pt x="321" y="2946"/>
                  </a:lnTo>
                  <a:lnTo>
                    <a:pt x="213" y="3045"/>
                  </a:lnTo>
                </a:path>
              </a:pathLst>
            </a:custGeom>
            <a:solidFill>
              <a:srgbClr val="dcdc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" name=""/>
          <p:cNvGraphicFramePr/>
          <p:nvPr/>
        </p:nvGraphicFramePr>
        <p:xfrm>
          <a:off x="6248520" y="76320"/>
          <a:ext cx="2743200" cy="64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76320"/>
                    <a:ext cx="27432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Pru97"/>
              </a:rPr>
              <a:t>Life Planners</a:t>
            </a:r>
            <a:endParaRPr b="1" lang="en-US" sz="4000" spc="-1" strike="noStrike">
              <a:solidFill>
                <a:srgbClr val="ffffff"/>
              </a:solidFill>
              <a:latin typeface="Pru97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Pru97"/>
              </a:rPr>
              <a:t>Prudential Financial, una de las compañías de seguros de vida más grande de los Estados Unidos, busca incorporar graduados universitarios con 2 o más años de experiencia exitosa en ventas para iniciar una carrera profesional prestigiosa.</a:t>
            </a:r>
            <a:endParaRPr b="0" lang="en-US" sz="2600" spc="-1" strike="noStrike">
              <a:solidFill>
                <a:srgbClr val="ffcc00"/>
              </a:solidFill>
              <a:latin typeface="Pru97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Pru97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Pru97"/>
              </a:rPr>
              <a:t>Excelente remuneración, relación de dependencia, intensivo programa de capacitación y entrenamiento.</a:t>
            </a:r>
            <a:endParaRPr b="0" lang="en-US" sz="2600" spc="-1" strike="noStrike">
              <a:solidFill>
                <a:srgbClr val="ffcc00"/>
              </a:solidFill>
              <a:latin typeface="Pru97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Pru97"/>
              </a:rPr>
              <a:t>Edad: 28 a 50 años</a:t>
            </a:r>
            <a:endParaRPr b="0" lang="en-US" sz="2600" spc="-1" strike="noStrike">
              <a:solidFill>
                <a:srgbClr val="ffcc00"/>
              </a:solidFill>
              <a:latin typeface="Pru97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Pru97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Pru97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Pru97"/>
              </a:rPr>
              <a:t>Enviar C.V. a: Prudential Seguros S. A. - Av. Libertador 498 5° -  1001 Capital Federal</a:t>
            </a:r>
            <a:endParaRPr b="0" lang="en-US" sz="1600" spc="-1" strike="noStrike">
              <a:solidFill>
                <a:srgbClr val="ffcc00"/>
              </a:solidFill>
              <a:latin typeface="Pru97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Pru97"/>
              </a:rPr>
              <a:t>At.: Fernando Loyola Tel.: 4394-8181 o  e-mail: fernando.loyola@prudential.com</a:t>
            </a:r>
            <a:endParaRPr b="0" lang="en-US" sz="1600" spc="-1" strike="noStrike">
              <a:solidFill>
                <a:srgbClr val="ffcc00"/>
              </a:solidFill>
              <a:latin typeface="Pru97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30T17:36:40Z</dcterms:created>
  <dc:creator>Prudention Bradesco</dc:creator>
  <dc:description/>
  <dc:language>en-US</dc:language>
  <cp:lastModifiedBy>X107561</cp:lastModifiedBy>
  <cp:lastPrinted>2000-02-17T22:20:22Z</cp:lastPrinted>
  <dcterms:modified xsi:type="dcterms:W3CDTF">2002-10-01T19:27:20Z</dcterms:modified>
  <cp:revision>0</cp:revision>
  <dc:subject/>
  <dc:title>No Slide Title</dc:title>
</cp:coreProperties>
</file>