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CDF-FC28-4317-B690-535CADFA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915-91C9-4F8A-AE3C-5A552EB7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0A0-291B-45B1-8B68-D556BFEC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16C-880A-4FDA-9D93-42A921FA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4A59-5577-4FE5-BF0B-324DF8D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EC9C-EB3F-4044-9F30-A4FA220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D4F7-A811-454F-B11F-74D99A8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BBC-A451-4F2C-BFEA-681A9624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5028-83FF-4F3E-B427-0EBCA79E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EBE-E238-41B3-AD13-B6890D1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FFE-6306-4352-80D0-59253C5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780-7305-4E3B-84D0-1AF41817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1EF6-68D4-488B-AD0F-051E9CB1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490-3AF9-4A31-BF68-04CF19F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1485-9D11-42B6-B09A-E64A0C2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315-A346-483C-9D70-2939BCD1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76B-A985-4E8B-BBF4-7B3E6DB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EA2-FA12-4DBC-85AF-6663D9CF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F9C-CA24-4DDB-92C1-51DE301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F0A-F87C-4DC5-8AE2-4EA9273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96A-849A-4F5F-A16F-02FD2F5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99C-FA7D-46B7-93EB-B04DF8B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691-6FE6-4345-A9BC-E55C576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37D-4E7F-48A9-AAB7-C840A7F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5FE-29D2-4382-8C0C-A1C565B0037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C4FC-6BE3-493E-9DAB-36A902A98A0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logoindexazul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89" name="titulo%20LNM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696440" cy="538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29200" y="2209680"/>
            <a:ext cx="3809880" cy="22870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“</a:t>
            </a: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l Liceo Nav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s una verdade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escuela de señorío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Bookman Old Style"/>
              </a:rPr>
              <a:t>Monseñor Victorio Bonamí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Bookman Old Style"/>
              </a:rPr>
              <a:t>Vicario Castrense (1963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5181480"/>
            <a:ext cx="3276720" cy="5814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Promoción XIV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9360" y="60469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Realizó Alfredo Ignacio Rive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cceso2" descr=""/>
          <p:cNvPicPr/>
          <p:nvPr/>
        </p:nvPicPr>
        <p:blipFill>
          <a:blip r:embed="rId1"/>
          <a:stretch/>
        </p:blipFill>
        <p:spPr>
          <a:xfrm>
            <a:off x="914400" y="774720"/>
            <a:ext cx="78487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cceso3" descr=""/>
          <p:cNvPicPr/>
          <p:nvPr/>
        </p:nvPicPr>
        <p:blipFill>
          <a:blip r:embed="rId1"/>
          <a:stretch/>
        </p:blipFill>
        <p:spPr>
          <a:xfrm>
            <a:off x="971640" y="635040"/>
            <a:ext cx="7791480" cy="519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32080" y="5985000"/>
            <a:ext cx="6949800" cy="337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imes New Roman"/>
              </a:rPr>
              <a:t>Ingresamos a la Isla Santiago, cruzamos sobre el Canal de las Mandarinas y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ccbase%20se%20ve%20liceo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6480" y="1355760"/>
            <a:ext cx="336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Falta el tanque de la Base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ero aparece una imagen familiar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362320"/>
            <a:ext cx="53352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uina%20base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791480" cy="5143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27160" y="2898720"/>
            <a:ext cx="2301840" cy="3385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os recuerdos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innumerable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asados de la B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Naval, en este quincho abandonad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iosantiago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1328760"/>
            <a:ext cx="7772400" cy="5072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Bookman Old Style"/>
              </a:rPr>
              <a:t>Un aporte de la XIV a la memoria colectiva</a:t>
            </a:r>
            <a:r>
              <a:rPr b="1" lang="es-ES_tradnl" sz="2000" spc="-1" strike="noStrike">
                <a:solidFill>
                  <a:srgbClr val="996633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647640"/>
            <a:ext cx="602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402000"/>
                  </a:solidFill>
                  <a:miter/>
                </a:ln>
                <a:solidFill>
                  <a:srgbClr val="402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uestro viejo Liceo, hoy</a:t>
            </a:r>
            <a:endParaRPr b="0" lang="en-US" sz="2400" spc="1" strike="noStrike">
              <a:ln w="12600">
                <a:solidFill>
                  <a:srgbClr val="402000"/>
                </a:solidFill>
                <a:miter/>
              </a:ln>
              <a:solidFill>
                <a:srgbClr val="402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320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9440" y="996840"/>
            <a:ext cx="184320" cy="3970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3840" y="1641600"/>
            <a:ext cx="7850880" cy="42087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motivo elegido para los decorados de nuestra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fiesta del cadete, fueron los recién estrenados “Picapiedras”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Nuestra singladura mas pintoresca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embarco a Río de Janeiro,escoltando a la regata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que ganó el “Stormvogel”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El embarco mas  emocionante, el viaje final a Ushuaia en el crucer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La Argentina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Nuestra mayor alegría deportiva, ganar el Campeonat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Interno 1963, en la regata de falúas, el Día del Cadete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minutos antes de la fiesta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2560" y="685800"/>
            <a:ext cx="6720120" cy="70380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La promoción XIV, ingresó al Liceo  Naval en marzo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de 1960 y egresó en diciembre de1964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imes New Roman"/>
              </a:rPr>
              <a:t>terminamos mojados, pero muy satisfechos.....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1" name="falua1963a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46360" y="743040"/>
            <a:ext cx="4746600" cy="520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...festejamos como locos..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festejoregata01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629400" cy="388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7880" y="5519880"/>
            <a:ext cx="6365160" cy="8254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nuestro “uma uma qui caicoba qui qui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resonó muy fuerte en la plaza de armas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imes New Roman"/>
              </a:rPr>
              <a:t>Enarbolamos bien alto, nuestros emblemas...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bandjoda14a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206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5400" y="5824440"/>
            <a:ext cx="297108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......el deportivo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nillo14a" descr=""/>
          <p:cNvPicPr/>
          <p:nvPr/>
        </p:nvPicPr>
        <p:blipFill>
          <a:blip r:embed="rId1"/>
          <a:stretch/>
        </p:blipFill>
        <p:spPr>
          <a:xfrm>
            <a:off x="990720" y="1181160"/>
            <a:ext cx="7772400" cy="438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63680" y="514440"/>
            <a:ext cx="2701440" cy="520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....y el formal.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3880" y="5900760"/>
            <a:ext cx="7267320" cy="4597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con la imagen de nuestro anillo de promoción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9400" y="955800"/>
            <a:ext cx="7340400" cy="45972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ero las cosas han cambiado, ya no mas tren ni ferry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2071800"/>
            <a:ext cx="7178400" cy="344664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Ahora nos manejamos con el auto y lo estacionamos en el patio cubier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omo es esta nueva histori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tomamos la autopista a La Plat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donde termina, retomamos hacia Punta Lar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en la rotonda de acceso a la misma, a la derech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hasta que aparece esta indica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cceso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27160" y="5486400"/>
            <a:ext cx="51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entro Naval    -     Sede Náutic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19920"/>
            <a:ext cx="6477120" cy="5205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 la izquierda, se abre un camino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3-11-22T14:55:41Z</dcterms:modified>
  <cp:revision>81</cp:revision>
  <dc:subject/>
  <dc:title>Sin título de diapositiva</dc:title>
</cp:coreProperties>
</file>