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53AE-4D91-4C78-A0E1-9E91F6EB4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E16E-99CA-4A13-912E-570AC65B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69CC-5A37-4401-A613-83637E33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CE3D-2429-4FFE-B0E7-2EA873E27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DA65-B723-448A-B2DD-BF948D690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AA0E-E30A-4BF4-9A6A-9BDA08B5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3581-1B69-45E3-865D-5B4F8915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2841-1EB6-4F9E-805B-9A914135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EC44-17B8-4A4E-9981-69115765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A5A5-1F5C-4A51-9239-9F189245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2F5EE-F0F4-4498-9C2C-D093AD9C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04B4-26AA-4F79-9AF8-3DD4DDAF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10BF-0C62-487F-BB0F-2A07AD59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F428-C87D-4009-A89E-4FB5614A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62AD-F4DB-464B-B546-32B56EAB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EFBB-F829-4DBE-B9C5-CAD7DA150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0ECE-237F-4E6B-9A41-155CC09A8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2CB1-7AA5-4855-8A30-80D72D81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BA6B-34A5-42D8-8709-242B432C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26AF-2764-4B23-8577-8AA7F089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6AA7-B271-4D0C-A42C-69D64EA3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5188-7E42-43CC-B54D-8663DF11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8DDB-E41B-4D90-BF05-91EDEA2D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C655-941F-4A48-B595-BA13C59F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3573-A2F6-48F7-BEB3-3C62B0E9223D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17CF-D1AE-4F03-9357-B21B68DEF549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ruina%20base2" descr=""/>
          <p:cNvPicPr/>
          <p:nvPr/>
        </p:nvPicPr>
        <p:blipFill>
          <a:blip r:embed="rId1"/>
          <a:stretch/>
        </p:blipFill>
        <p:spPr>
          <a:xfrm>
            <a:off x="971640" y="635040"/>
            <a:ext cx="7791480" cy="5003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90720" y="5943600"/>
            <a:ext cx="7711920" cy="398880"/>
          </a:xfrm>
          <a:prstGeom prst="rect">
            <a:avLst/>
          </a:prstGeom>
          <a:solidFill>
            <a:srgbClr val="c6c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2000"/>
                </a:solidFill>
                <a:latin typeface="Times New Roman"/>
              </a:rPr>
              <a:t>O las jornadas de trabajo, que acumula este galpón abandonado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94920" y="795240"/>
            <a:ext cx="6845040" cy="45972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ahoma"/>
              </a:rPr>
              <a:t>Y ya dentro del Liceo, afloran los recuerdos...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11320" y="1709640"/>
            <a:ext cx="760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ahoma"/>
              </a:rPr>
              <a:t>Los dormitorios, otrora unidos, han sido separados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2" name="dormitorio%20norte" descr=""/>
          <p:cNvPicPr/>
          <p:nvPr/>
        </p:nvPicPr>
        <p:blipFill>
          <a:blip r:embed="rId1"/>
          <a:stretch/>
        </p:blipFill>
        <p:spPr>
          <a:xfrm>
            <a:off x="1066680" y="24382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93" name="dormitorio%20sur" descr=""/>
          <p:cNvPicPr/>
          <p:nvPr/>
        </p:nvPicPr>
        <p:blipFill>
          <a:blip r:embed="rId2"/>
          <a:stretch/>
        </p:blipFill>
        <p:spPr>
          <a:xfrm>
            <a:off x="4572000" y="3632040"/>
            <a:ext cx="4267080" cy="2845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19320" y="2209680"/>
            <a:ext cx="3657600" cy="398880"/>
          </a:xfrm>
          <a:prstGeom prst="rect">
            <a:avLst/>
          </a:prstGeom>
          <a:solidFill>
            <a:srgbClr val="dcf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2000"/>
                </a:solidFill>
                <a:latin typeface="Tahoma"/>
              </a:rPr>
              <a:t>El  ala que daba al canal W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429000"/>
            <a:ext cx="3951360" cy="276480"/>
          </a:xfrm>
          <a:prstGeom prst="rect">
            <a:avLst/>
          </a:prstGeom>
          <a:solidFill>
            <a:srgbClr val="dcf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2000"/>
                </a:solidFill>
                <a:latin typeface="Tahoma"/>
              </a:rPr>
              <a:t>El sector sur, pegado al edificio de oficiales</a:t>
            </a:r>
            <a:r>
              <a:rPr b="0" lang="es-ES_tradnl" sz="1200" spc="-1" strike="noStrike">
                <a:solidFill>
                  <a:srgbClr val="402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66680" y="422280"/>
            <a:ext cx="7772400" cy="19234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2000"/>
                </a:solidFill>
                <a:latin typeface="Tahoma"/>
              </a:rPr>
              <a:t>En esos dormitorios, todavía resuenan las voces de lo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2000"/>
                </a:solidFill>
                <a:latin typeface="Tahoma"/>
              </a:rPr>
              <a:t>Blutgen, los Corcuera, los Otegui...los Sandro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402000"/>
                </a:solidFill>
                <a:uFillTx/>
                <a:latin typeface="Tahoma"/>
              </a:rPr>
              <a:t>“</a:t>
            </a:r>
            <a:r>
              <a:rPr b="1" lang="es-ES_tradnl" sz="2000" spc="-1" strike="noStrike" u="sng">
                <a:solidFill>
                  <a:srgbClr val="402000"/>
                </a:solidFill>
                <a:uFillTx/>
                <a:latin typeface="Tahoma"/>
              </a:rPr>
              <a:t>El cuerpo tiene 15 segundos para estar formado en 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402000"/>
                </a:solidFill>
                <a:uFillTx/>
                <a:latin typeface="Tahoma"/>
              </a:rPr>
              <a:t>patio cubierto”,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402000"/>
                </a:solidFill>
                <a:latin typeface="Tahoma"/>
              </a:rPr>
              <a:t>y entonces es muy probable que recuerdes este recorrido frenético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7" name="alist3%20sur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060560" y="2514600"/>
            <a:ext cx="2754360" cy="3809880"/>
          </a:xfrm>
          <a:prstGeom prst="rect">
            <a:avLst/>
          </a:prstGeom>
          <a:ln w="0">
            <a:noFill/>
          </a:ln>
        </p:spPr>
      </p:pic>
      <p:pic>
        <p:nvPicPr>
          <p:cNvPr id="98" name="alist4%20pasillo%20promoc." descr=""/>
          <p:cNvPicPr/>
          <p:nvPr/>
        </p:nvPicPr>
        <p:blipFill>
          <a:blip r:embed="rId2"/>
          <a:stretch/>
        </p:blipFill>
        <p:spPr>
          <a:xfrm>
            <a:off x="3886200" y="2844720"/>
            <a:ext cx="4876920" cy="3251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101320" y="2362320"/>
            <a:ext cx="1785600" cy="368280"/>
          </a:xfrm>
          <a:prstGeom prst="rect">
            <a:avLst/>
          </a:prstGeom>
          <a:solidFill>
            <a:srgbClr val="f3c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2000"/>
                </a:solidFill>
                <a:latin typeface="Times New Roman"/>
              </a:rPr>
              <a:t>Primero por acá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27960" y="2604960"/>
            <a:ext cx="4609440" cy="368280"/>
          </a:xfrm>
          <a:prstGeom prst="rect">
            <a:avLst/>
          </a:prstGeom>
          <a:solidFill>
            <a:srgbClr val="f3c6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2000"/>
                </a:solidFill>
                <a:latin typeface="Times New Roman"/>
              </a:rPr>
              <a:t>Un giro a la izquierda, descenso sin control y,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14800" y="6080040"/>
            <a:ext cx="4724280" cy="3988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2000"/>
                </a:solidFill>
                <a:latin typeface="Tahoma"/>
              </a:rPr>
              <a:t>desembocamos mas o menos por..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asillo%20de%20los%20promoc.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990720" y="4572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813200" y="922320"/>
            <a:ext cx="3981600" cy="825480"/>
          </a:xfrm>
          <a:prstGeom prst="rect">
            <a:avLst/>
          </a:prstGeom>
          <a:solidFill>
            <a:srgbClr val="47eb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ahoma"/>
              </a:rPr>
              <a:t>.....el pasillo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ahoma"/>
              </a:rPr>
              <a:t>de los jardines de abajo..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03480" y="3733920"/>
            <a:ext cx="3673440" cy="825480"/>
          </a:xfrm>
          <a:prstGeom prst="rect">
            <a:avLst/>
          </a:prstGeom>
          <a:solidFill>
            <a:srgbClr val="c6c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ahoma"/>
              </a:rPr>
              <a:t>....y finalmente en el patio cubierto.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5" name="patcub1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257800" y="2590920"/>
            <a:ext cx="3143160" cy="2095560"/>
          </a:xfrm>
          <a:prstGeom prst="rect">
            <a:avLst/>
          </a:prstGeom>
          <a:ln w="0">
            <a:noFill/>
          </a:ln>
        </p:spPr>
      </p:pic>
      <p:pic>
        <p:nvPicPr>
          <p:cNvPr id="106" name="patcub2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2895480" y="4495680"/>
            <a:ext cx="2990880" cy="1994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248880" y="5562720"/>
            <a:ext cx="2306880" cy="824040"/>
          </a:xfrm>
          <a:prstGeom prst="rect">
            <a:avLst/>
          </a:prstGeom>
          <a:solidFill>
            <a:srgbClr val="fb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2000"/>
                </a:solidFill>
                <a:latin typeface="Times New Roman"/>
              </a:rPr>
              <a:t>POR SUPUESTO,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2000"/>
                </a:solidFill>
                <a:latin typeface="Times New Roman"/>
              </a:rPr>
              <a:t>DEBEMOS ELIMINAR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2000"/>
                </a:solidFill>
                <a:latin typeface="Times New Roman"/>
              </a:rPr>
              <a:t>EL AUTO 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alist1%20norte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3028680" cy="4038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66680" y="457200"/>
            <a:ext cx="7010640" cy="94716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2000"/>
                </a:solidFill>
                <a:latin typeface="Tahoma"/>
              </a:rPr>
              <a:t>...., si eras cadete de 5to. Año, el recorrido era otro,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98920" y="1744560"/>
            <a:ext cx="3012480" cy="459720"/>
          </a:xfrm>
          <a:prstGeom prst="rect">
            <a:avLst/>
          </a:prstGeom>
          <a:solidFill>
            <a:srgbClr val="dcf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ahoma"/>
              </a:rPr>
              <a:t>Primero, esta salid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1" name="alist%202%20comedor" descr=""/>
          <p:cNvPicPr/>
          <p:nvPr/>
        </p:nvPicPr>
        <p:blipFill>
          <a:blip r:embed="rId2"/>
          <a:stretch/>
        </p:blipFill>
        <p:spPr>
          <a:xfrm>
            <a:off x="5753160" y="2514600"/>
            <a:ext cx="2857320" cy="3809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740840" y="2201760"/>
            <a:ext cx="3556440" cy="459720"/>
          </a:xfrm>
          <a:prstGeom prst="rect">
            <a:avLst/>
          </a:prstGeom>
          <a:solidFill>
            <a:srgbClr val="e0f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ahoma"/>
              </a:rPr>
              <a:t>Y derecho al comedor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56680" y="803160"/>
            <a:ext cx="7581240" cy="3988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2000"/>
                </a:solidFill>
                <a:latin typeface="Tahoma"/>
              </a:rPr>
              <a:t>Si salías corriendo...., ni pensar en afeitarte, peinarte.etc..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4" name="duchas1entrada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066680" y="1371600"/>
            <a:ext cx="3048120" cy="4572000"/>
          </a:xfrm>
          <a:prstGeom prst="rect">
            <a:avLst/>
          </a:prstGeom>
          <a:ln w="0">
            <a:noFill/>
          </a:ln>
        </p:spPr>
      </p:pic>
      <p:pic>
        <p:nvPicPr>
          <p:cNvPr id="115" name="duchas2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724280" y="1295280"/>
            <a:ext cx="3676680" cy="2451240"/>
          </a:xfrm>
          <a:prstGeom prst="rect">
            <a:avLst/>
          </a:prstGeom>
          <a:ln w="0">
            <a:noFill/>
          </a:ln>
        </p:spPr>
      </p:pic>
      <p:pic>
        <p:nvPicPr>
          <p:cNvPr id="116" name="duchas3" descr=""/>
          <p:cNvPicPr/>
          <p:nvPr/>
        </p:nvPicPr>
        <p:blipFill>
          <a:blip r:embed="rId3"/>
          <a:stretch/>
        </p:blipFill>
        <p:spPr>
          <a:xfrm>
            <a:off x="4419720" y="3886200"/>
            <a:ext cx="3657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obera" descr="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1600200" y="175248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08120" y="819000"/>
            <a:ext cx="53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ahoma"/>
              </a:rPr>
              <a:t>Ahora era el turno de pabellón...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23:45:03Z</dcterms:created>
  <dc:creator>Alfredo</dc:creator>
  <dc:description/>
  <dc:language>en-US</dc:language>
  <cp:lastModifiedBy>Alejandro de Montmollin</cp:lastModifiedBy>
  <dcterms:modified xsi:type="dcterms:W3CDTF">2004-01-08T23:26:54Z</dcterms:modified>
  <cp:revision>81</cp:revision>
  <dc:subject/>
  <dc:title>Sin título de diapositiva</dc:title>
</cp:coreProperties>
</file>