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F5C-70F2-473B-8F9C-129617A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B13-408A-4D18-ABC7-FE656E7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C6C-8F05-46A5-8ABF-AE5AFE7F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1D2-60A3-4B0F-B4BD-53860E6B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F9EC-E69A-4AA2-9161-D571A28A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9B24-16F1-41F5-95FA-EAA2836E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4A17-57EA-43C6-B8A0-2251857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020-C1C0-4A4B-8838-63CF882D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1F1-7545-4C70-ACBD-6A2E6EB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EBEF-7E78-433F-A9C7-DD0A62C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8F4-855E-4E04-B472-D25C726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FA0-9DEE-40EA-B323-2721375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8D59-CC0E-4AAF-AFCC-F4BDC49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EDF-A79A-48F9-9E18-D2F5748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733-5E6B-4B55-850C-7AF2265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7AFB-98B2-4F9A-8B72-697FAEAB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078-70DC-4C20-959C-39A1F4A9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7BE-8DCC-49AC-8E79-34ECB55C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8D1-D2F4-49BA-A7ED-748ABE1E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C3-43C8-4157-9E96-1AEDA0A1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B74-1F5D-4CEE-85E9-AFBF482F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879-F276-4247-9023-68F8167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BE7-04E5-4B74-BBD4-0384F75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920-B2C0-46A3-8B60-9E3A561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5611-BF60-44E4-B398-A9AE0920AC2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0CA-3780-4156-A7FB-EEDE7DA866D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laza1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77240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4880" y="304920"/>
            <a:ext cx="7635600" cy="70380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Faltan  muchas  cosas, en la Plaza de Armas...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                         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algunas líneas están todavía demarcadas..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50840" y="533520"/>
            <a:ext cx="5560560" cy="45972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ero otras cosas, continuan en su lugar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guardia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760" y="1295280"/>
            <a:ext cx="1802520" cy="45972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a guardia</a:t>
            </a: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alameda" descr=""/>
          <p:cNvPicPr/>
          <p:nvPr/>
        </p:nvPicPr>
        <p:blipFill>
          <a:blip r:embed="rId2"/>
          <a:stretch/>
        </p:blipFill>
        <p:spPr>
          <a:xfrm>
            <a:off x="5676840" y="213372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88760" y="1751040"/>
            <a:ext cx="3539520" cy="61164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La alameda</a:t>
            </a:r>
            <a:r>
              <a:rPr b="0" lang="es-ES_tradnl" sz="1600" spc="-1" strike="noStrike">
                <a:solidFill>
                  <a:srgbClr val="402000"/>
                </a:solidFill>
                <a:latin typeface="Times New Roman"/>
              </a:rPr>
              <a:t>:...”.che, Marino bajó d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imes New Roman"/>
              </a:rPr>
              <a:t>la lancha, a ver si  zafamos de la prueba”</a:t>
            </a:r>
            <a:r>
              <a:rPr b="0" lang="es-ES_tradnl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5" name="alam2" descr=""/>
          <p:cNvPicPr/>
          <p:nvPr/>
        </p:nvPicPr>
        <p:blipFill>
          <a:blip r:embed="rId3"/>
          <a:stretch/>
        </p:blipFill>
        <p:spPr>
          <a:xfrm>
            <a:off x="1878120" y="44197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3360" y="3886200"/>
            <a:ext cx="3205800" cy="64260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La escalera donde nos sacam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la foto de guardiamarina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72840" y="6019920"/>
            <a:ext cx="268776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y por supuesto..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03480" y="380880"/>
            <a:ext cx="7483320" cy="10087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Nuestro querido pabellón, y el cotidian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recuerdo de nuestro lema rector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                        “</a:t>
            </a: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Abnegación y sacrificio, por la Patria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pabell1" descr=""/>
          <p:cNvPicPr/>
          <p:nvPr/>
        </p:nvPicPr>
        <p:blipFill>
          <a:blip r:embed="rId1"/>
          <a:stretch/>
        </p:blipFill>
        <p:spPr>
          <a:xfrm>
            <a:off x="1504800" y="19051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abell2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abell3" descr=""/>
          <p:cNvPicPr/>
          <p:nvPr/>
        </p:nvPicPr>
        <p:blipFill>
          <a:blip r:embed="rId3"/>
          <a:stretch/>
        </p:blipFill>
        <p:spPr>
          <a:xfrm>
            <a:off x="21337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abell4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galponpt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4" name="granos2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laisla" descr=""/>
          <p:cNvPicPr/>
          <p:nvPr/>
        </p:nvPicPr>
        <p:blipFill>
          <a:blip r:embed="rId3"/>
          <a:stretch/>
        </p:blipFill>
        <p:spPr>
          <a:xfrm>
            <a:off x="4876920" y="3867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astill2" descr=""/>
          <p:cNvPicPr/>
          <p:nvPr/>
        </p:nvPicPr>
        <p:blipFill>
          <a:blip r:embed="rId4"/>
          <a:stretch/>
        </p:blipFill>
        <p:spPr>
          <a:xfrm>
            <a:off x="990720" y="3657600"/>
            <a:ext cx="2114280" cy="2819520"/>
          </a:xfrm>
          <a:prstGeom prst="rect">
            <a:avLst/>
          </a:prstGeom>
          <a:ln w="0">
            <a:noFill/>
          </a:ln>
        </p:spPr>
      </p:pic>
      <p:pic>
        <p:nvPicPr>
          <p:cNvPr id="107" name="astill1" descr=""/>
          <p:cNvPicPr/>
          <p:nvPr/>
        </p:nvPicPr>
        <p:blipFill>
          <a:blip r:embed="rId5"/>
          <a:stretch/>
        </p:blipFill>
        <p:spPr>
          <a:xfrm>
            <a:off x="2108160" y="2590920"/>
            <a:ext cx="223524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54680" y="343080"/>
            <a:ext cx="6942960" cy="368280"/>
          </a:xfrm>
          <a:prstGeom prst="rect">
            <a:avLst/>
          </a:prstGeom>
          <a:solidFill>
            <a:srgbClr val="fb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Algunas de las imágenes, que dominábamos desde la Plaza de Armas</a:t>
            </a:r>
            <a:r>
              <a:rPr b="0" lang="es-ES_tradnl" sz="16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1066680"/>
            <a:ext cx="1752840" cy="1006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En esta fotografía falta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los elevadores de granos y el frigorífic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3680" y="1722600"/>
            <a:ext cx="1642320" cy="6415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El lugar dond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estaban l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lanchas torpeder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2895480"/>
            <a:ext cx="1244520" cy="3373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El astiller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048120"/>
            <a:ext cx="2971800" cy="94644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La isla de enfrente, citada en mas de un escrito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Además falta el “fósforo”, que iluminaba lasnoches liceanas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1-18T13:34:03Z</dcterms:modified>
  <cp:revision>84</cp:revision>
  <dc:subject/>
  <dc:title>Sin título de diapositiva</dc:title>
</cp:coreProperties>
</file>