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322-70F3-4CD8-832C-39EE9F98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623-2E94-4747-AD98-FBD6C3C2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E4B-F002-4616-AC67-DF1AEE41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3EB-3005-4F70-9111-F9F578EE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D9AA-2EAC-4DA7-B323-F0642E6A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B816-8220-4C6E-A845-78C37950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D3BE-A0F6-4771-AAE4-77494D84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A175-CA13-4E64-958D-80AA8BCC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AFF4-B491-452A-B417-ECE99812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4A86-83DB-47F0-BDFF-162B3D8A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735E-58EB-41B2-8FC0-72CEBC25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5808-5DC2-4CA2-BD50-5383461A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D8F4-A5C1-490A-A0E2-D54DAAF4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1A83-DAC9-4DC5-9268-F41969AB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1A28-4B14-410C-A613-81BBABA8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E7BF-9C68-482D-8D41-547B9661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D355-1BB0-403B-9AA6-BDA6459D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E89-A2D5-468F-B3C0-39D810D4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F83-39FD-483D-8205-9438067B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703-6954-4015-9818-68F886A2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62A-CB73-4571-B433-8D077798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355-4B4D-40CA-A3E0-1F69F636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543-9957-46D3-A3F6-B2B5FF63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2BD-CF9C-4D6A-99B3-1E0A3BBE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CC74-16E3-4681-AC68-4CFACDCF255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5CEF-FE35-4AC2-9A13-CEC16ED4C74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edific%20interior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2082600" cy="3124080"/>
          </a:xfrm>
          <a:prstGeom prst="rect">
            <a:avLst/>
          </a:prstGeom>
          <a:ln w="0">
            <a:noFill/>
          </a:ln>
        </p:spPr>
      </p:pic>
      <p:pic>
        <p:nvPicPr>
          <p:cNvPr id="89" name="comedor%20prof.%20y%20ofic." descr=""/>
          <p:cNvPicPr/>
          <p:nvPr/>
        </p:nvPicPr>
        <p:blipFill>
          <a:blip r:embed="rId2"/>
          <a:stretch/>
        </p:blipFill>
        <p:spPr>
          <a:xfrm>
            <a:off x="4267080" y="1143000"/>
            <a:ext cx="3733920" cy="2489040"/>
          </a:xfrm>
          <a:prstGeom prst="rect">
            <a:avLst/>
          </a:prstGeom>
          <a:ln w="0">
            <a:noFill/>
          </a:ln>
        </p:spPr>
      </p:pic>
      <p:pic>
        <p:nvPicPr>
          <p:cNvPr id="90" name="edific1" descr=""/>
          <p:cNvPicPr/>
          <p:nvPr/>
        </p:nvPicPr>
        <p:blipFill>
          <a:blip r:embed="rId3"/>
          <a:stretch/>
        </p:blipFill>
        <p:spPr>
          <a:xfrm>
            <a:off x="2286000" y="38098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91" name="edific2" descr=""/>
          <p:cNvPicPr/>
          <p:nvPr/>
        </p:nvPicPr>
        <p:blipFill>
          <a:blip r:embed="rId4"/>
          <a:stretch/>
        </p:blipFill>
        <p:spPr>
          <a:xfrm flipH="1">
            <a:off x="5257800" y="3886200"/>
            <a:ext cx="3479760" cy="261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8080" y="533520"/>
            <a:ext cx="8001000" cy="5806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Los profesores ingresaron al edificio principal, tomaron sus cosas de la Sala de Profesores y salieron al patio cubierto, para dirigirse a cada división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07120" y="1747800"/>
            <a:ext cx="1746000" cy="459000"/>
          </a:xfrm>
          <a:prstGeom prst="rect">
            <a:avLst/>
          </a:prstGeom>
          <a:solidFill>
            <a:srgbClr val="c6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2000"/>
                </a:solidFill>
                <a:latin typeface="Tahoma"/>
              </a:rPr>
              <a:t>Sala de profesores y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2000"/>
                </a:solidFill>
                <a:latin typeface="Tahoma"/>
              </a:rPr>
              <a:t>comedor de oficial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21240" y="4643280"/>
            <a:ext cx="1438200" cy="733320"/>
          </a:xfrm>
          <a:prstGeom prst="rect">
            <a:avLst/>
          </a:prstGeom>
          <a:solidFill>
            <a:srgbClr val="fb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Tahoma"/>
              </a:rPr>
              <a:t>Patio cubiert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Tahoma"/>
              </a:rPr>
              <a:t>con meno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52560" y="1384200"/>
            <a:ext cx="1319040" cy="824040"/>
          </a:xfrm>
          <a:prstGeom prst="rect">
            <a:avLst/>
          </a:prstGeom>
          <a:solidFill>
            <a:srgbClr val="dcf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Entrad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al edifici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de oficiale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15960" y="5035680"/>
            <a:ext cx="1092240" cy="52020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Tahoma"/>
              </a:rPr>
              <a:t>Edificio de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Tahoma"/>
              </a:rPr>
              <a:t>oficiales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asillo1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3981600" cy="2654280"/>
          </a:xfrm>
          <a:prstGeom prst="rect">
            <a:avLst/>
          </a:prstGeom>
          <a:ln w="0">
            <a:noFill/>
          </a:ln>
        </p:spPr>
      </p:pic>
      <p:pic>
        <p:nvPicPr>
          <p:cNvPr id="98" name="pasillo2" descr=""/>
          <p:cNvPicPr/>
          <p:nvPr/>
        </p:nvPicPr>
        <p:blipFill>
          <a:blip r:embed="rId2"/>
          <a:stretch/>
        </p:blipFill>
        <p:spPr>
          <a:xfrm>
            <a:off x="5257800" y="1752480"/>
            <a:ext cx="3143160" cy="2095560"/>
          </a:xfrm>
          <a:prstGeom prst="rect">
            <a:avLst/>
          </a:prstGeom>
          <a:ln w="0">
            <a:noFill/>
          </a:ln>
        </p:spPr>
      </p:pic>
      <p:pic>
        <p:nvPicPr>
          <p:cNvPr id="99" name="Tintoreria%20y%20sala%20de%20armas" descr=""/>
          <p:cNvPicPr/>
          <p:nvPr/>
        </p:nvPicPr>
        <p:blipFill>
          <a:blip r:embed="rId3"/>
          <a:stretch/>
        </p:blipFill>
        <p:spPr>
          <a:xfrm>
            <a:off x="2057400" y="3962520"/>
            <a:ext cx="3301920" cy="2476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62520" y="730080"/>
            <a:ext cx="4800600" cy="580680"/>
          </a:xfrm>
          <a:prstGeom prst="rect">
            <a:avLst/>
          </a:prstGeom>
          <a:solidFill>
            <a:srgbClr val="47eb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Para llegar a las divisiones, recorrieron los pasill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4876920"/>
            <a:ext cx="2971800" cy="824040"/>
          </a:xfrm>
          <a:prstGeom prst="rect">
            <a:avLst/>
          </a:prstGeom>
          <a:solidFill>
            <a:srgbClr val="f3f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Pero sin llegar al canal W, la sala de armas y la tintorería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iol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90720" y="990720"/>
            <a:ext cx="3943080" cy="5333760"/>
          </a:xfrm>
          <a:prstGeom prst="rect">
            <a:avLst/>
          </a:prstGeom>
          <a:ln w="0">
            <a:noFill/>
          </a:ln>
        </p:spPr>
      </p:pic>
      <p:pic>
        <p:nvPicPr>
          <p:cNvPr id="103" name="biol2" descr=""/>
          <p:cNvPicPr/>
          <p:nvPr/>
        </p:nvPicPr>
        <p:blipFill>
          <a:blip r:embed="rId2"/>
          <a:stretch/>
        </p:blipFill>
        <p:spPr>
          <a:xfrm>
            <a:off x="5181480" y="1027080"/>
            <a:ext cx="3581640" cy="2478240"/>
          </a:xfrm>
          <a:prstGeom prst="rect">
            <a:avLst/>
          </a:prstGeom>
          <a:ln w="0">
            <a:noFill/>
          </a:ln>
        </p:spPr>
      </p:pic>
      <p:pic>
        <p:nvPicPr>
          <p:cNvPr id="104" name="biol3" descr=""/>
          <p:cNvPicPr/>
          <p:nvPr/>
        </p:nvPicPr>
        <p:blipFill>
          <a:blip r:embed="rId3"/>
          <a:stretch/>
        </p:blipFill>
        <p:spPr>
          <a:xfrm>
            <a:off x="5029200" y="3809880"/>
            <a:ext cx="3657600" cy="2347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04400" y="534960"/>
            <a:ext cx="7274880" cy="36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Romagosa y Saffores nos aguardaban en su antro biológico..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5to3ra2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648480" cy="4432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50320" y="488880"/>
            <a:ext cx="8029440" cy="642600"/>
          </a:xfrm>
          <a:prstGeom prst="rect">
            <a:avLst/>
          </a:prstGeom>
          <a:solidFill>
            <a:srgbClr val="f3c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lgunos recuerdos exclusivos,....5to.3ra....., nuestros  “ cuentas” a pleno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anil, Federico, Massarini, Soncini...etc...etc..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23:45:03Z</dcterms:created>
  <dc:creator>Alfredo</dc:creator>
  <dc:description/>
  <dc:language>en-US</dc:language>
  <cp:lastModifiedBy>Alejandro de Montmollin</cp:lastModifiedBy>
  <dcterms:modified xsi:type="dcterms:W3CDTF">2004-03-16T01:17:53Z</dcterms:modified>
  <cp:revision>82</cp:revision>
  <dc:subject/>
  <dc:title>Sin título de diapositiva</dc:title>
</cp:coreProperties>
</file>