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9168-634D-47F0-9CF4-E3E5C21DA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480A-773B-4E0C-8ADC-A6282950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BEC2-12F8-4533-9F41-66A81B273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D26D-77F9-42DC-B0D7-DF33EBDD5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B6D9-4A29-465F-AAC7-7B1E3BF10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EC64-0A69-46C5-AC94-1BDB813C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E804-0441-4BD9-8CE1-6722730C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E4E2-9562-4512-A8D9-3959EDB2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485E-39B3-483B-BCF4-7A966AD6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E773-3C47-4354-A7C8-407A1491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59EE-A438-4131-8716-540F1BAA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7F47-A1D6-4E0E-83AF-0CDB8319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209E-1D22-407E-A589-2C8B2202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35F5-4C0A-48A5-A494-99235220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4E71-EDF3-401D-BCB2-EE608454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9DA6-45EC-43D5-9C59-EC9E7ACD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58AB-63A0-4F69-98DF-D9CA190EA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416C-FE76-4A8F-AA74-7A67C996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72EF-CB74-454C-BA63-8F9D4C1C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3C8F-3DB6-444C-9E99-C114A729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2A52-68F0-46FC-A297-81FF2D75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B3C1-0EFD-4D68-92C3-85E1D9F2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8DE5-39E3-42B8-A0F5-105EB13D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F198-2361-4087-9FFC-AEDD7EE9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337B-DCD9-4FBC-9CE0-78D432F78A17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ED6A-6DBE-4FDB-9C7E-C4290855576B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ventana%20desfenestrante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7569360" cy="4724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037880" y="512640"/>
            <a:ext cx="7652880" cy="580680"/>
          </a:xfrm>
          <a:prstGeom prst="rect">
            <a:avLst/>
          </a:prstGeom>
          <a:solidFill>
            <a:srgbClr val="f3c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Si eras de 5to. 2da., y cumplías años, entonces esta ventana te resulta familiar,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seguro la atravesaste en alguna desfenestración..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13y12" descr=""/>
          <p:cNvPicPr/>
          <p:nvPr/>
        </p:nvPicPr>
        <p:blipFill>
          <a:blip r:embed="rId1"/>
          <a:stretch/>
        </p:blipFill>
        <p:spPr>
          <a:xfrm>
            <a:off x="2965320" y="457200"/>
            <a:ext cx="5645160" cy="6114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274760" y="795240"/>
            <a:ext cx="5050080" cy="825480"/>
          </a:xfrm>
          <a:prstGeom prst="rect">
            <a:avLst/>
          </a:prstGeom>
          <a:solidFill>
            <a:srgbClr val="34fe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ahoma"/>
              </a:rPr>
              <a:t>Pleno reclutamiento en 1960..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ahoma"/>
              </a:rPr>
              <a:t>las puertas de 1ro. 3ra. y 1ro. 2da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mesaqui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066680" y="762120"/>
            <a:ext cx="2946600" cy="4190760"/>
          </a:xfrm>
          <a:prstGeom prst="rect">
            <a:avLst/>
          </a:prstGeom>
          <a:ln w="0">
            <a:noFill/>
          </a:ln>
        </p:spPr>
      </p:pic>
      <p:pic>
        <p:nvPicPr>
          <p:cNvPr id="93" name="quimi2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114800" y="3632040"/>
            <a:ext cx="4133880" cy="2756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338000" y="1709640"/>
            <a:ext cx="4478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ahoma"/>
              </a:rPr>
              <a:t>Creo que este gabinete, 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ahoma"/>
              </a:rPr>
              <a:t>reconocido con toda facilidad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ahoma"/>
              </a:rPr>
              <a:t>La mesa de experimentos 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ahoma"/>
              </a:rPr>
              <a:t>inconfundible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58080" y="609480"/>
            <a:ext cx="4385520" cy="581400"/>
          </a:xfrm>
          <a:prstGeom prst="rect">
            <a:avLst/>
          </a:prstGeom>
          <a:solidFill>
            <a:srgbClr val="fd35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2000"/>
                </a:solidFill>
                <a:latin typeface="Times New Roman"/>
              </a:rPr>
              <a:t>!!!!!!!!!!!!!!!!!!!!!!!!!!!!!!!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2400" y="5378400"/>
            <a:ext cx="2056680" cy="642600"/>
          </a:xfrm>
          <a:prstGeom prst="rect">
            <a:avLst/>
          </a:prstGeom>
          <a:solidFill>
            <a:srgbClr val="ca4b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2000"/>
                </a:solidFill>
                <a:latin typeface="Tahoma"/>
              </a:rPr>
              <a:t>Además huele a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2000"/>
                </a:solidFill>
                <a:latin typeface="Tahoma"/>
              </a:rPr>
              <a:t>sulfuro.............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fisica1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4495680" y="205740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98" name="nautica" descr=""/>
          <p:cNvPicPr/>
          <p:nvPr/>
        </p:nvPicPr>
        <p:blipFill>
          <a:blip r:embed="rId2"/>
          <a:stretch/>
        </p:blipFill>
        <p:spPr>
          <a:xfrm>
            <a:off x="1219320" y="87624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99" name="nautica2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1066680" y="375300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17040" y="3313080"/>
            <a:ext cx="2500200" cy="642600"/>
          </a:xfrm>
          <a:prstGeom prst="rect">
            <a:avLst/>
          </a:prstGeom>
          <a:solidFill>
            <a:srgbClr val="c6c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2000"/>
                </a:solidFill>
                <a:latin typeface="Tahoma"/>
              </a:rPr>
              <a:t>Dos imágenes del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2000"/>
                </a:solidFill>
                <a:latin typeface="Tahoma"/>
              </a:rPr>
              <a:t>gabinete de Náutic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56840" y="5210280"/>
            <a:ext cx="2485080" cy="580680"/>
          </a:xfrm>
          <a:prstGeom prst="rect">
            <a:avLst/>
          </a:prstGeom>
          <a:solidFill>
            <a:srgbClr val="47eb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2000"/>
                </a:solidFill>
                <a:latin typeface="Tahoma"/>
              </a:rPr>
              <a:t>Y  una del gabinete del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2000"/>
                </a:solidFill>
                <a:latin typeface="Tahoma"/>
              </a:rPr>
              <a:t>        </a:t>
            </a:r>
            <a:r>
              <a:rPr b="1" lang="es-ES_tradnl" sz="1600" spc="-1" strike="noStrike">
                <a:solidFill>
                  <a:srgbClr val="402000"/>
                </a:solidFill>
                <a:latin typeface="Tahoma"/>
              </a:rPr>
              <a:t>FISICA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zarron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772400" cy="5086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78480" y="539640"/>
            <a:ext cx="7675920" cy="70380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2000"/>
                </a:solidFill>
                <a:latin typeface="Tahoma"/>
              </a:rPr>
              <a:t>Epa,...un hallazgo, el único pizarrón de los nuestros, que h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2000"/>
                </a:solidFill>
                <a:latin typeface="Tahoma"/>
              </a:rPr>
              <a:t>quedado en pié,....colgado...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comedor%20desde%20casino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3098880" cy="46479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067400" y="533520"/>
            <a:ext cx="3646440" cy="82404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2000"/>
                </a:solidFill>
                <a:latin typeface="Tahoma"/>
              </a:rPr>
              <a:t>Llega el mediodía y debemo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2000"/>
                </a:solidFill>
                <a:latin typeface="Tahoma"/>
              </a:rPr>
              <a:t>almorzar, vamos hacia el comedor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2000"/>
                </a:solidFill>
                <a:latin typeface="Tahoma"/>
              </a:rPr>
              <a:t>atravesando el Casino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6" name="comedor" descr=""/>
          <p:cNvPicPr/>
          <p:nvPr/>
        </p:nvPicPr>
        <p:blipFill>
          <a:blip r:embed="rId2"/>
          <a:stretch/>
        </p:blipFill>
        <p:spPr>
          <a:xfrm>
            <a:off x="4724280" y="2273400"/>
            <a:ext cx="3905280" cy="3593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375080" y="2101680"/>
            <a:ext cx="4476960" cy="33732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2000"/>
                </a:solidFill>
                <a:latin typeface="Tahoma"/>
              </a:rPr>
              <a:t>En este lugar aprendimos a disfrutar del...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89840" y="5987880"/>
            <a:ext cx="3196800" cy="33732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2000"/>
                </a:solidFill>
                <a:latin typeface="Tahoma"/>
              </a:rPr>
              <a:t>“</a:t>
            </a:r>
            <a:r>
              <a:rPr b="1" lang="es-ES_tradnl" sz="1600" spc="-1" strike="noStrike">
                <a:solidFill>
                  <a:srgbClr val="402000"/>
                </a:solidFill>
                <a:latin typeface="Tahoma"/>
              </a:rPr>
              <a:t>Soco” naval, preparado en....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23:45:03Z</dcterms:created>
  <dc:creator>Alfredo</dc:creator>
  <dc:description/>
  <dc:language>en-US</dc:language>
  <cp:lastModifiedBy>Alejandro de Montmollin</cp:lastModifiedBy>
  <dcterms:modified xsi:type="dcterms:W3CDTF">2004-04-05T21:40:57Z</dcterms:modified>
  <cp:revision>83</cp:revision>
  <dc:subject/>
  <dc:title>Sin título de diapositiva</dc:title>
</cp:coreProperties>
</file>