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7B8-F851-48D3-B3BB-E24CBFDC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B72-1A81-4A4B-8B98-3E0A523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8C3-E5BA-4B28-AF9F-E2668807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632-F8BD-44D3-AFBB-7801B3E3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D63-C42E-42E6-BA65-307592C7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92B-B649-449F-BD65-F5B3D5F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3B0-A012-4857-81D5-56A7AF8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DB11-1185-45D8-A00A-2E244E7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B988-F12F-4472-BD44-6B6C406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B57-5C95-47A2-9BBE-B409C6B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A16-1978-4028-B413-D5C3809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C13-1945-4892-8D06-AF1DCCA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4EB6-3586-4D24-AC27-8DF786F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1BED-0077-4657-AE8E-AF677EC5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474D-B496-4797-9B27-60194765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F8B-A3E5-4B77-B90F-48AF00FF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E98-08E0-431E-9CEA-614DDF83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A1B-FF86-4C4C-BD71-1B93CFF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168-A0A7-4E61-826C-CDB28FAF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54B-9B33-4A56-AF71-215F5F7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E17-04C6-40EB-91CC-A8D14C8B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696-FCA6-44FE-9B9B-24EAEE7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CE8-9221-428C-BE4C-EE33B961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A29-396C-4FAB-8A6A-E27C532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B11E-A39F-427E-9B13-88BEE9E89BC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4CBA-4ABB-429C-AF6A-CCEAD5D938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cina1" descr=""/>
          <p:cNvPicPr/>
          <p:nvPr/>
        </p:nvPicPr>
        <p:blipFill>
          <a:blip r:embed="rId1"/>
          <a:stretch/>
        </p:blipFill>
        <p:spPr>
          <a:xfrm>
            <a:off x="4114800" y="28954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cocina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43000" y="1066680"/>
            <a:ext cx="4521240" cy="339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08680" y="1111320"/>
            <a:ext cx="2701800" cy="119124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ahoma"/>
              </a:rPr>
              <a:t>LA COCINA,</a:t>
            </a: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5880" y="4343400"/>
            <a:ext cx="2753280" cy="3373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RESPONSABILIDAD DEL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16120" y="5576760"/>
            <a:ext cx="3105360" cy="36828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...AYUDANTE DE GUARD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7560" y="74304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Luego del rancho, a cambiarse de deport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comedor%20escalera%20al%20dormit.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812600">
            <a:off x="2971800" y="4495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7560" y="831960"/>
            <a:ext cx="55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Y ahora el recreo mayor, en el Casino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casino%20entrada%20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casino%20hogar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09880" y="144792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99" name="vitrina%20de%20lejos" descr=""/>
          <p:cNvPicPr/>
          <p:nvPr/>
        </p:nvPicPr>
        <p:blipFill>
          <a:blip r:embed="rId3"/>
          <a:stretch/>
        </p:blipFill>
        <p:spPr>
          <a:xfrm>
            <a:off x="2590920" y="3962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0" name="vitrina%20cerca" descr=""/>
          <p:cNvPicPr/>
          <p:nvPr/>
        </p:nvPicPr>
        <p:blipFill>
          <a:blip r:embed="rId4"/>
          <a:stretch/>
        </p:blipFill>
        <p:spPr>
          <a:xfrm>
            <a:off x="5715000" y="4178160"/>
            <a:ext cx="2990880" cy="199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55600" y="5654520"/>
            <a:ext cx="2001960" cy="824040"/>
          </a:xfrm>
          <a:prstGeom prst="rect">
            <a:avLst/>
          </a:prstGeom>
          <a:solidFill>
            <a:srgbClr val="f3f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Al fondo, Zapata,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sus diarios y sus juegos,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y sonando la música d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Fausto Papetti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5640" y="1593720"/>
            <a:ext cx="2318760" cy="337320"/>
          </a:xfrm>
          <a:prstGeom prst="rect">
            <a:avLst/>
          </a:prstGeom>
          <a:solidFill>
            <a:srgbClr val="47e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A la derecha el hog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8600" y="1371600"/>
            <a:ext cx="1716840" cy="45972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entr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74760" y="6095880"/>
            <a:ext cx="2081160" cy="30708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Los logros deportiv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72560" y="642960"/>
            <a:ext cx="6622560" cy="82548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Hablando de nuestro Casino, hay dos form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que lo definen clarament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casino%20molduras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casino%20columna" descr=""/>
          <p:cNvPicPr/>
          <p:nvPr/>
        </p:nvPicPr>
        <p:blipFill>
          <a:blip r:embed="rId2"/>
          <a:stretch/>
        </p:blipFill>
        <p:spPr>
          <a:xfrm>
            <a:off x="3848040" y="144792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81960" y="5334120"/>
            <a:ext cx="2120760" cy="119124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Son las 14 h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comienza 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deporte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4-17T13:22:14Z</dcterms:modified>
  <cp:revision>84</cp:revision>
  <dc:subject/>
  <dc:title>Sin título de diapositiva</dc:title>
</cp:coreProperties>
</file>