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90B-0E7A-461C-80EE-3A4F78C9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305-E01A-4D11-85E4-24A1F510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2CC-1F0B-40AE-8545-D48A75A7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9CE-9789-48CD-BCDA-4A3B977A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C8CD-27FE-4C97-AAA2-4B18DB68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ABBA-8504-4621-B837-519390EE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1237-608B-4CB0-84EE-E78F5F4D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8737-7E92-4E5B-8D22-B9885B10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AFE6-C457-4C45-834E-7B115A71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E723-0246-456B-B496-B144082E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76A6-DF1A-4270-8DB0-56C8BE5E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8B0-B7ED-4F34-B07B-41A8BCE5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8760-821D-456D-9806-31196F44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6EA1-BFB5-4574-9CC5-2950C276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229B-0351-453A-A121-26C5F0BC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06AB-A63C-4AA4-B17B-2A2A4943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A4EF-2CBB-4DAB-BD40-BF9137F0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57E-DC96-4748-B739-126A38A7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6E8-7DF7-4DF4-AC3F-9B7A7DAE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669-6A73-4C17-8BEF-F318277E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876-E35D-4C0E-9D93-300F47F9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E9B-B1D9-4932-9301-9460845D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6AB-BD93-4FC2-8CE5-5A9865D2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214-86C3-489B-A67D-12EA192B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AA58-25E4-42F6-8201-5396B88945B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977B-3CC4-4D59-B89C-991960CB4B0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onton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3067200" cy="2044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67400" y="374760"/>
            <a:ext cx="2465280" cy="368280"/>
          </a:xfrm>
          <a:prstGeom prst="rect">
            <a:avLst/>
          </a:prstGeom>
          <a:solidFill>
            <a:srgbClr val="fd35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Cruzamos el pontó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0" name="enm1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010120" y="1219320"/>
            <a:ext cx="3371760" cy="224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117040" y="984240"/>
            <a:ext cx="3170880" cy="33732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Caminamos por estos lugare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pileta%20edificio" descr=""/>
          <p:cNvPicPr/>
          <p:nvPr/>
        </p:nvPicPr>
        <p:blipFill>
          <a:blip r:embed="rId3"/>
          <a:stretch/>
        </p:blipFill>
        <p:spPr>
          <a:xfrm>
            <a:off x="1066680" y="30481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93" name="pileta%20afuera" descr=""/>
          <p:cNvPicPr/>
          <p:nvPr/>
        </p:nvPicPr>
        <p:blipFill>
          <a:blip r:embed="rId4"/>
          <a:stretch/>
        </p:blipFill>
        <p:spPr>
          <a:xfrm>
            <a:off x="2057400" y="4648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94" name="pileta%20interior" descr=""/>
          <p:cNvPicPr/>
          <p:nvPr/>
        </p:nvPicPr>
        <p:blipFill>
          <a:blip r:embed="rId5"/>
          <a:stretch/>
        </p:blipFill>
        <p:spPr>
          <a:xfrm>
            <a:off x="4267080" y="3645000"/>
            <a:ext cx="3448080" cy="2298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581440" y="6178680"/>
            <a:ext cx="30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Para ir a natación...ó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ngoal" descr=""/>
          <p:cNvPicPr/>
          <p:nvPr/>
        </p:nvPicPr>
        <p:blipFill>
          <a:blip r:embed="rId1"/>
          <a:stretch/>
        </p:blipFill>
        <p:spPr>
          <a:xfrm>
            <a:off x="1504800" y="762120"/>
            <a:ext cx="6267600" cy="378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98560" y="490680"/>
            <a:ext cx="7788240" cy="825480"/>
          </a:xfrm>
          <a:prstGeom prst="rect">
            <a:avLst/>
          </a:prstGeom>
          <a:solidFill>
            <a:srgbClr val="dcf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a cancha de rugby...testigo de momentos histórico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8" name="navalcontramilitar63" descr=""/>
          <p:cNvPicPr/>
          <p:nvPr/>
        </p:nvPicPr>
        <p:blipFill>
          <a:blip r:embed="rId2"/>
          <a:stretch/>
        </p:blipFill>
        <p:spPr>
          <a:xfrm>
            <a:off x="4135320" y="3733920"/>
            <a:ext cx="4399200" cy="2573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70480" y="4807080"/>
            <a:ext cx="2413440" cy="733320"/>
          </a:xfrm>
          <a:prstGeom prst="rect">
            <a:avLst/>
          </a:prstGeom>
          <a:solidFill>
            <a:srgbClr val="f63c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Como esta tarde de 1963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donde derrotamos a los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“</a:t>
            </a:r>
            <a:r>
              <a:rPr b="1" lang="es-ES_tradnl" sz="1400" spc="-1" strike="noStrike">
                <a:solidFill>
                  <a:srgbClr val="402000"/>
                </a:solidFill>
                <a:latin typeface="Tahoma"/>
              </a:rPr>
              <a:t>primos” del Militar,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23:45:03Z</dcterms:created>
  <dc:creator>Alfredo</dc:creator>
  <dc:description/>
  <dc:language>en-US</dc:language>
  <cp:lastModifiedBy>Alejandro de Montmollin</cp:lastModifiedBy>
  <dcterms:modified xsi:type="dcterms:W3CDTF">2004-05-15T20:17:23Z</dcterms:modified>
  <cp:revision>86</cp:revision>
  <dc:subject/>
  <dc:title>Sin título de diapositiva</dc:title>
</cp:coreProperties>
</file>