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E37D-F5E1-4D9D-AC3C-A39CBD8F4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6669-DF3E-4556-AE52-FF64689A5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865F-9838-48EB-ADE6-3F7999947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FC19-44BB-42FA-9FA3-DEA745666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ED1B-ED23-4527-B7E6-13AC30DE0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1B2A-DB28-4A22-BF01-2F6DF6AE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7EA4-EF40-4B3E-90CB-55C751959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C3EDB-7BB3-46CA-A0DF-8D99CB85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1653-6A37-4046-9761-38E4610F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1D30F-1A0B-45E6-B4FF-9947E62E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0240-F373-4ACC-AF0E-94C960202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416E-6065-4402-A022-2D39BFA4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510C-5C4B-415E-8FB0-E05F5B74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F9A7-EE87-404B-9D29-5C549CEE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114EF-D138-4FDA-A166-429F1BF1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F22A-9B22-4C94-98A8-F53F0F6F8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7DCFA-3654-4ECF-8ECC-F411E3DB2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94AE-D756-4B10-9350-87ACD670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C5F2-F97E-45A4-99FC-4CB8F81D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C717-2297-422E-B8A5-4EB41AF2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9B1E-9D13-4A49-82E2-01FE7D3D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F26B-AA38-4F34-9E60-146488E9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B3F1-8791-4FD0-BBED-FDA12D5A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64C2-6A13-4EC0-9B0C-CE76B850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735A-EFB6-464F-8332-DDA8E9629B86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377D-C453-481E-899B-7E99BE04F896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149120" y="539640"/>
            <a:ext cx="7751880" cy="703800"/>
          </a:xfrm>
          <a:prstGeom prst="rect">
            <a:avLst/>
          </a:prstGeom>
          <a:solidFill>
            <a:srgbClr val="faf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2000"/>
                </a:solidFill>
                <a:latin typeface="Tahoma"/>
              </a:rPr>
              <a:t>...para los que teníamos  remo, vela ó necesitábamos algún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2000"/>
                </a:solidFill>
                <a:latin typeface="Tahoma"/>
              </a:rPr>
              <a:t>elemento deportivo,  el pañol de botes....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89" name="jardin1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90" name="rampa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064040" cy="3048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058760" y="1447920"/>
            <a:ext cx="3562560" cy="398880"/>
          </a:xfrm>
          <a:prstGeom prst="rect">
            <a:avLst/>
          </a:prstGeom>
          <a:solidFill>
            <a:srgbClr val="c6c4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2000"/>
                </a:solidFill>
                <a:latin typeface="Times New Roman"/>
              </a:rPr>
              <a:t>...estaba mas ó menos por ahí..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20000" y="1689120"/>
            <a:ext cx="3603600" cy="1739880"/>
          </a:xfrm>
          <a:prstGeom prst="rect">
            <a:avLst/>
          </a:prstGeom>
          <a:solidFill>
            <a:srgbClr val="f3f8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Y estos son los dominio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de nuestros ilustres </a:t>
            </a:r>
            <a:r>
              <a:rPr b="1" lang="es-ES_tradnl" sz="1800" spc="-1" strike="noStrike" u="sng">
                <a:solidFill>
                  <a:srgbClr val="402000"/>
                </a:solidFill>
                <a:uFillTx/>
                <a:latin typeface="Tahoma"/>
              </a:rPr>
              <a:t>náuticos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“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el chueco”Ibarra, “el pollo”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Martini, “el flaco”Sori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“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quique”Perez, el “sapo”Ques y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el “tato” Yrigoyen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jardin2" descr=""/>
          <p:cNvPicPr/>
          <p:nvPr/>
        </p:nvPicPr>
        <p:blipFill>
          <a:blip r:embed="rId1"/>
          <a:stretch/>
        </p:blipFill>
        <p:spPr>
          <a:xfrm>
            <a:off x="1447920" y="609480"/>
            <a:ext cx="3200400" cy="4267440"/>
          </a:xfrm>
          <a:prstGeom prst="rect">
            <a:avLst/>
          </a:prstGeom>
          <a:ln w="0">
            <a:noFill/>
          </a:ln>
        </p:spPr>
      </p:pic>
      <p:pic>
        <p:nvPicPr>
          <p:cNvPr id="94" name="jardin3" descr=""/>
          <p:cNvPicPr/>
          <p:nvPr/>
        </p:nvPicPr>
        <p:blipFill>
          <a:blip r:embed="rId2"/>
          <a:stretch/>
        </p:blipFill>
        <p:spPr>
          <a:xfrm>
            <a:off x="5410080" y="1981080"/>
            <a:ext cx="3143520" cy="41911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321880" y="714240"/>
            <a:ext cx="325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2000"/>
                </a:solidFill>
                <a:latin typeface="Tahoma"/>
              </a:rPr>
              <a:t>No podemos dejar de recordar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402000"/>
                </a:solidFill>
                <a:latin typeface="Tahoma"/>
              </a:rPr>
              <a:t>a nuestro inefable profesor,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42280" y="5402160"/>
            <a:ext cx="2337120" cy="459720"/>
          </a:xfrm>
          <a:prstGeom prst="rect">
            <a:avLst/>
          </a:prstGeom>
          <a:solidFill>
            <a:srgbClr val="dcf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ahoma"/>
              </a:rPr>
              <a:t>MARCOGLIES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jardin4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6248520" cy="46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3840" y="533520"/>
            <a:ext cx="6771960" cy="916920"/>
          </a:xfrm>
          <a:prstGeom prst="rect">
            <a:avLst/>
          </a:prstGeom>
          <a:solidFill>
            <a:srgbClr val="dcf2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2000"/>
                </a:solidFill>
                <a:latin typeface="Tahoma"/>
              </a:rPr>
              <a:t>Sitio de nutrida concurrencia, en época de trimestrales y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402000"/>
                </a:solidFill>
                <a:latin typeface="Tahoma"/>
              </a:rPr>
              <a:t>cualquier tipo de prueba deportiva ó intelectual,</a:t>
            </a:r>
            <a:r>
              <a:rPr b="0" lang="es-ES_tradnl" sz="1800" spc="-1" strike="noStrike">
                <a:solidFill>
                  <a:srgbClr val="402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402000"/>
                </a:solidFill>
                <a:latin typeface="Tahoma"/>
              </a:rPr>
              <a:t>donde l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402000"/>
                </a:solidFill>
                <a:uFillTx/>
                <a:latin typeface="Tahoma"/>
              </a:rPr>
              <a:t>Señora del Mar</a:t>
            </a:r>
            <a:r>
              <a:rPr b="1" lang="es-ES_tradnl" sz="1800" spc="-1" strike="noStrike">
                <a:solidFill>
                  <a:srgbClr val="402000"/>
                </a:solidFill>
                <a:latin typeface="Tahoma"/>
              </a:rPr>
              <a:t>, era intensamente requerida....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capilla%20anterior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600720" cy="24004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987840" y="387360"/>
            <a:ext cx="7246080" cy="398880"/>
          </a:xfrm>
          <a:prstGeom prst="rect">
            <a:avLst/>
          </a:prstGeom>
          <a:solidFill>
            <a:srgbClr val="34fe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2000"/>
                </a:solidFill>
                <a:latin typeface="Tahoma"/>
              </a:rPr>
              <a:t>Si la necesidad era mas importante, teníamos la capilla,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1" name="capilla%20nueva" descr=""/>
          <p:cNvPicPr/>
          <p:nvPr/>
        </p:nvPicPr>
        <p:blipFill>
          <a:blip r:embed="rId2"/>
          <a:stretch/>
        </p:blipFill>
        <p:spPr>
          <a:xfrm>
            <a:off x="3886200" y="2819520"/>
            <a:ext cx="4673520" cy="35049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782960" y="1211400"/>
            <a:ext cx="2337120" cy="398880"/>
          </a:xfrm>
          <a:prstGeom prst="rect">
            <a:avLst/>
          </a:prstGeom>
          <a:solidFill>
            <a:srgbClr val="f3f82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2000"/>
                </a:solidFill>
                <a:latin typeface="Tahoma"/>
              </a:rPr>
              <a:t>La de los 60’s, ó..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56320" y="4495680"/>
            <a:ext cx="3483360" cy="1313640"/>
          </a:xfrm>
          <a:prstGeom prst="rect">
            <a:avLst/>
          </a:prstGeom>
          <a:solidFill>
            <a:srgbClr val="e0f9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2000"/>
                </a:solidFill>
                <a:latin typeface="Tahoma"/>
              </a:rPr>
              <a:t>La más nueva, edificad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2000"/>
                </a:solidFill>
                <a:latin typeface="Tahoma"/>
              </a:rPr>
              <a:t>en los viejos territorios d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2000"/>
                </a:solidFill>
                <a:latin typeface="Tahoma"/>
              </a:rPr>
              <a:t>Rapi, Blanco y las Sras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402000"/>
                </a:solidFill>
                <a:latin typeface="Tahoma"/>
              </a:rPr>
              <a:t>Costureras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23:45:03Z</dcterms:created>
  <dc:creator>Alfredo</dc:creator>
  <dc:description/>
  <dc:language>en-US</dc:language>
  <cp:lastModifiedBy>'</cp:lastModifiedBy>
  <dcterms:modified xsi:type="dcterms:W3CDTF">2004-07-18T19:24:06Z</dcterms:modified>
  <cp:revision>83</cp:revision>
  <dc:subject/>
  <dc:title>Sin título de diapositiva</dc:title>
</cp:coreProperties>
</file>