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5CB1-D995-436C-8F27-3D9998A52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49E2-3565-4DCD-A863-C1A74EF8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C34F-9BF2-4608-8475-D4CEE69D6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22C8-0A7C-4077-8F49-64359C20C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2CE8-04EF-41EE-AA33-626905C95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CE7FE-C5B7-4D4F-9BEE-6D9797EC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8D03-33A1-45B7-B9C8-6AF39A81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41455-E0B1-420B-AB9C-9FCC74D2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47721-A1AF-458B-BA5A-642D8E9B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964BE-691F-4910-B0E4-C38A4592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5F17-34B1-47B6-80F3-A008CF18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02DF-E652-4618-A45B-3B498966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74C4A-1212-4C4E-8D2C-C988F504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4585-D79E-4748-9918-8289207E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967E-14D4-4DE5-ADEF-A95816D0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BFE5-8A29-41C0-A905-CD4DDE35D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4D7C-D048-4CE2-BD3A-1A30AE70E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E3B2-BCF4-44C9-A167-5640AD7D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D12D-1441-4B8B-AA4D-31B9DCA8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20E9-4661-4BDD-9C3C-36891124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297E-417A-4954-9056-D7DF3A0B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F87F-3A5C-4AF6-ACE0-F598C80E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11CD-7D03-4654-BA0F-879C8FC8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3A8A-C35D-47B7-9C60-23D25123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DBB1-77B6-41D6-A484-AECB5377A58F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321B-0ED0-432B-B4B3-B17B80E4160D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duchas2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066680" y="838080"/>
            <a:ext cx="3219480" cy="2146320"/>
          </a:xfrm>
          <a:prstGeom prst="rect">
            <a:avLst/>
          </a:prstGeom>
          <a:ln w="0">
            <a:noFill/>
          </a:ln>
        </p:spPr>
      </p:pic>
      <p:pic>
        <p:nvPicPr>
          <p:cNvPr id="89" name="comedor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429000" y="213372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90" name="casino%20entrada%20com" descr="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6172200" y="3352680"/>
            <a:ext cx="2286000" cy="3048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294200" y="387360"/>
            <a:ext cx="2754720" cy="398880"/>
          </a:xfrm>
          <a:prstGeom prst="rect">
            <a:avLst/>
          </a:prstGeom>
          <a:solidFill>
            <a:srgbClr val="34fe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2000"/>
                </a:solidFill>
                <a:latin typeface="Tahoma"/>
              </a:rPr>
              <a:t>El baño vespertino..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47880" y="1682640"/>
            <a:ext cx="1226160" cy="398880"/>
          </a:xfrm>
          <a:prstGeom prst="rect">
            <a:avLst/>
          </a:prstGeom>
          <a:solidFill>
            <a:srgbClr val="c6c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ahoma"/>
              </a:rPr>
              <a:t>la cena..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96600" y="5187960"/>
            <a:ext cx="2543040" cy="398880"/>
          </a:xfrm>
          <a:prstGeom prst="rect">
            <a:avLst/>
          </a:prstGeom>
          <a:solidFill>
            <a:srgbClr val="dcf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ahoma"/>
              </a:rPr>
              <a:t>...el recreo mayor...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microcin%20entrada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143000" y="685800"/>
            <a:ext cx="3219480" cy="2146320"/>
          </a:xfrm>
          <a:prstGeom prst="rect">
            <a:avLst/>
          </a:prstGeom>
          <a:ln w="0">
            <a:noFill/>
          </a:ln>
        </p:spPr>
      </p:pic>
      <p:pic>
        <p:nvPicPr>
          <p:cNvPr id="95" name="micrcin2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4800600" y="1905120"/>
            <a:ext cx="3905280" cy="2603520"/>
          </a:xfrm>
          <a:prstGeom prst="rect">
            <a:avLst/>
          </a:prstGeom>
          <a:ln w="0">
            <a:noFill/>
          </a:ln>
        </p:spPr>
      </p:pic>
      <p:pic>
        <p:nvPicPr>
          <p:cNvPr id="96" name="micrcin3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1066680" y="3200400"/>
            <a:ext cx="4362480" cy="2908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412520" y="669960"/>
            <a:ext cx="4365720" cy="703800"/>
          </a:xfrm>
          <a:prstGeom prst="rect">
            <a:avLst/>
          </a:prstGeom>
          <a:solidFill>
            <a:srgbClr val="c6c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2000"/>
                </a:solidFill>
                <a:latin typeface="Tahoma"/>
              </a:rPr>
              <a:t>Para terminar el día, conferenci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2000"/>
                </a:solidFill>
                <a:latin typeface="Tahoma"/>
              </a:rPr>
              <a:t>en el viejo microcin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87840" y="4730760"/>
            <a:ext cx="3135600" cy="1008720"/>
          </a:xfrm>
          <a:prstGeom prst="rect">
            <a:avLst/>
          </a:prstGeom>
          <a:solidFill>
            <a:srgbClr val="e0f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2000"/>
                </a:solidFill>
                <a:latin typeface="Tahoma"/>
              </a:rPr>
              <a:t>También puede ser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2000"/>
                </a:solidFill>
                <a:latin typeface="Tahoma"/>
              </a:rPr>
              <a:t>un concierto....ó quint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2000"/>
                </a:solidFill>
                <a:latin typeface="Tahoma"/>
              </a:rPr>
              <a:t>año se va al cine..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camino%20al%20cine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066680" y="1219320"/>
            <a:ext cx="7696440" cy="49910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004400" y="412920"/>
            <a:ext cx="7663680" cy="64260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2000"/>
                </a:solidFill>
                <a:latin typeface="Tahoma"/>
              </a:rPr>
              <a:t>...por la Plaza de Armas de la Base Naval, donde curiosamente no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2000"/>
                </a:solidFill>
                <a:latin typeface="Tahoma"/>
              </a:rPr>
              <a:t>está la torre de observación, llegamos al cine...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cinebase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990720" y="1295280"/>
            <a:ext cx="7772400" cy="5162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74880" y="412920"/>
            <a:ext cx="771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2000"/>
                </a:solidFill>
                <a:latin typeface="Tahoma"/>
              </a:rPr>
              <a:t>El viejo cine presenta algunos cambios, aunque en su techo aniden los pájaros, tiene imborrables marcas del paso de varias generaciones liceanas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23:45:03Z</dcterms:created>
  <dc:creator>Alfredo</dc:creator>
  <dc:description/>
  <dc:language>en-US</dc:language>
  <cp:lastModifiedBy>Alejandro de Montmollin</cp:lastModifiedBy>
  <dcterms:modified xsi:type="dcterms:W3CDTF">2004-08-13T01:15:42Z</dcterms:modified>
  <cp:revision>82</cp:revision>
  <dc:subject/>
  <dc:title>Sin título de diapositiva</dc:title>
</cp:coreProperties>
</file>