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1778-8DE1-4280-8BB5-66FECAE17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0D00-73BF-446E-9584-9D6B63237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D15F-C85B-44E4-8844-513E500A3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301B-0BFB-4505-AA58-29F8121F7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D418C-F363-45F2-9AEE-353EF36EC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BA301-0BAE-4A82-A7BC-BE8FEF931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A62F2-45FB-4308-B1D2-B77D4B758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4EF08-3CB3-4EEF-9EDB-A29FCB8DE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8D04D-B6AB-433E-96A7-6753DB2EB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A2504-7B3E-44D8-BED8-6DBF6CE85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8B0E2-2257-49D5-AA9C-68CBBACE3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5880-7D60-4087-90AF-A375EADA7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B1A92-1883-4618-804F-6B1BE38DA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7B3EE-5B31-469D-9D2C-0DC9DC0F1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5FD57-BA7C-4CE8-BBF1-32664AFB2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D2ECC-D374-4730-A9BF-ED7F5DCEC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C8256-B319-4B3E-9C1B-899EE3BA2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649D-A18D-42A1-A244-C94DBECD7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804E-6F2B-4C66-9AAA-06C7D568E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AAAD-5E50-481F-B887-BBA381E08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52FA-C38F-4EF9-B4EA-34546505C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449A-F5BD-4CB2-8759-2984D31F1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12BB-1E7E-49AA-8F85-06787145C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0549-6376-4CF3-8148-05C4D9FEB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minispir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71D3C-344A-4224-8EBC-70D76A25E4E5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minispir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D5412-3419-4CEC-A9CE-81F138626418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grafiti1" descr=""/>
          <p:cNvPicPr/>
          <p:nvPr/>
        </p:nvPicPr>
        <p:blipFill>
          <a:blip r:embed="rId1"/>
          <a:stretch/>
        </p:blipFill>
        <p:spPr>
          <a:xfrm>
            <a:off x="4495680" y="457200"/>
            <a:ext cx="4294440" cy="3220920"/>
          </a:xfrm>
          <a:prstGeom prst="rect">
            <a:avLst/>
          </a:prstGeom>
          <a:ln w="0">
            <a:noFill/>
          </a:ln>
        </p:spPr>
      </p:pic>
      <p:pic>
        <p:nvPicPr>
          <p:cNvPr id="89" name="grafiti2" descr=""/>
          <p:cNvPicPr/>
          <p:nvPr/>
        </p:nvPicPr>
        <p:blipFill>
          <a:blip r:embed="rId2"/>
          <a:stretch/>
        </p:blipFill>
        <p:spPr>
          <a:xfrm>
            <a:off x="990720" y="914400"/>
            <a:ext cx="3200400" cy="4267080"/>
          </a:xfrm>
          <a:prstGeom prst="rect">
            <a:avLst/>
          </a:prstGeom>
          <a:ln w="0">
            <a:noFill/>
          </a:ln>
        </p:spPr>
      </p:pic>
      <p:pic>
        <p:nvPicPr>
          <p:cNvPr id="90" name="grafiti3" descr=""/>
          <p:cNvPicPr/>
          <p:nvPr/>
        </p:nvPicPr>
        <p:blipFill>
          <a:blip r:embed="rId3"/>
          <a:stretch/>
        </p:blipFill>
        <p:spPr>
          <a:xfrm>
            <a:off x="3784680" y="3048120"/>
            <a:ext cx="4597200" cy="34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grafiti%20general" descr=""/>
          <p:cNvPicPr/>
          <p:nvPr/>
        </p:nvPicPr>
        <p:blipFill>
          <a:blip r:embed="rId1"/>
          <a:stretch/>
        </p:blipFill>
        <p:spPr>
          <a:xfrm>
            <a:off x="990720" y="1371600"/>
            <a:ext cx="7772400" cy="48578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143000" y="533520"/>
            <a:ext cx="7635960" cy="703800"/>
          </a:xfrm>
          <a:prstGeom prst="rect">
            <a:avLst/>
          </a:prstGeom>
          <a:solidFill>
            <a:srgbClr val="eca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02000"/>
                </a:solidFill>
                <a:latin typeface="Tahoma"/>
              </a:rPr>
              <a:t>Sirva esta imagen final de homenaje a todos y cada uno de nuestros hermanos del Liceo Naval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517000" y="5638680"/>
            <a:ext cx="3045600" cy="459720"/>
          </a:xfrm>
          <a:prstGeom prst="rect">
            <a:avLst/>
          </a:prstGeom>
          <a:solidFill>
            <a:srgbClr val="eca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ahoma"/>
              </a:rPr>
              <a:t>Por la XIV</a:t>
            </a: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, </a:t>
            </a:r>
            <a:r>
              <a:rPr b="1" lang="es-ES_tradnl" sz="1400" spc="-1" strike="noStrike">
                <a:solidFill>
                  <a:srgbClr val="402000"/>
                </a:solidFill>
                <a:latin typeface="Tahoma"/>
              </a:rPr>
              <a:t>Alfredo Rivera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548000" y="819000"/>
            <a:ext cx="6619680" cy="520560"/>
          </a:xfrm>
          <a:prstGeom prst="rect">
            <a:avLst/>
          </a:prstGeom>
          <a:solidFill>
            <a:srgbClr val="e0f9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2000"/>
                </a:solidFill>
                <a:latin typeface="Tahoma"/>
              </a:rPr>
              <a:t>....y que quede absolutamente claro....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52680" y="3106800"/>
            <a:ext cx="7057800" cy="146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d3548">
                    <a:alpha val="50000"/>
                  </a:srgbClr>
                </a:solidFill>
                <a:latin typeface="Arial Black"/>
              </a:rPr>
              <a:t>Este no es el final de nada..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d3548">
                  <a:alpha val="50000"/>
                </a:srgbClr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1371600" y="1447920"/>
            <a:ext cx="6553080" cy="434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ahoma"/>
              </a:rPr>
              <a:t>Bienvenidas: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ahoma"/>
              </a:rPr>
              <a:t>L , LI , LII , LIII..........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Tahoma"/>
              <a:ea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23:45:03Z</dcterms:created>
  <dc:creator>Alfredo</dc:creator>
  <dc:description/>
  <dc:language>en-US</dc:language>
  <cp:lastModifiedBy>Alejandro de Montmollin</cp:lastModifiedBy>
  <dcterms:modified xsi:type="dcterms:W3CDTF">2004-09-04T19:42:15Z</dcterms:modified>
  <cp:revision>81</cp:revision>
  <dc:subject/>
  <dc:title>Sin título de diapositiva</dc:title>
</cp:coreProperties>
</file>