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6E0-2A5C-4987-893D-9CD13C8B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DCB-CBE0-4B26-804D-D6DB3308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857-9140-44B9-AD49-595B40DB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8E4-16BC-4AF1-ACB4-358D0C97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B8F-CDDB-4746-8DE0-A9BA8F0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DCF-EFEB-434F-944A-6640EC51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C32-0B6A-42FC-8118-45CD4B47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07D-BDEC-4538-8B2B-61CBFA1E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BDB-E4E3-4BB7-84C2-BE5F9A4B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85B-C107-44DD-A6D3-90DAEAF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8F3-6D75-406C-9426-F629368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5A1-5238-48DC-9B4D-292B684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873-F1B9-4C2C-89D7-FFD6A181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ctore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Esquina de Santa Fe y Junin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lectore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Pringles entre La Merced y Mitre, en Caseros 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Cl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2" descr=""/>
          <p:cNvPicPr/>
          <p:nvPr/>
        </p:nvPicPr>
        <p:blipFill>
          <a:blip r:embed="rId1"/>
          <a:stretch/>
        </p:blipFill>
        <p:spPr>
          <a:xfrm>
            <a:off x="0" y="-228600"/>
            <a:ext cx="922032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ario Cl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" descr=""/>
          <p:cNvPicPr/>
          <p:nvPr/>
        </p:nvPicPr>
        <p:blipFill>
          <a:blip r:embed="rId1"/>
          <a:stretch/>
        </p:blipFill>
        <p:spPr>
          <a:xfrm>
            <a:off x="0" y="-152280"/>
            <a:ext cx="9220320" cy="716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ario Cl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4" descr=""/>
          <p:cNvPicPr/>
          <p:nvPr/>
        </p:nvPicPr>
        <p:blipFill>
          <a:blip r:embed="rId1"/>
          <a:stretch/>
        </p:blipFill>
        <p:spPr>
          <a:xfrm>
            <a:off x="0" y="-152280"/>
            <a:ext cx="937260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ario Cl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" descr=""/>
          <p:cNvPicPr/>
          <p:nvPr/>
        </p:nvPicPr>
        <p:blipFill>
          <a:blip r:embed="rId1"/>
          <a:stretch/>
        </p:blipFill>
        <p:spPr>
          <a:xfrm>
            <a:off x="0" y="-76320"/>
            <a:ext cx="9318600" cy="693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ario Cl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N3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N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N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1522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ectore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Trozo de hielo encontrado en la zona de Plaza de Mayo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LN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6Noticias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Web 26 Noticia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nfoba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1522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ario Infob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infoba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1522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v. 9 de Julio - Diario Infob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N7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320" y="7632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Diario La 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ectores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oto tomada en Belgrano y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ectore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1522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v. Entre Ríos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ectore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3808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ectores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Esquina de Lavalle y Rodríguez Peña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lectores8" descr=""/>
          <p:cNvPicPr/>
          <p:nvPr/>
        </p:nvPicPr>
        <p:blipFill>
          <a:blip r:embed="rId1"/>
          <a:stretch/>
        </p:blipFill>
        <p:spPr>
          <a:xfrm>
            <a:off x="-228600" y="-135000"/>
            <a:ext cx="9372600" cy="699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33cc"/>
                </a:solidFill>
                <a:latin typeface="Arial"/>
              </a:rPr>
              <a:t>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ectore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ctores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22860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allao y Corrientes - foto enviada a Clarín por un 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4:43:10Z</dcterms:created>
  <dc:creator>.</dc:creator>
  <dc:description/>
  <dc:language>en-US</dc:language>
  <cp:lastModifiedBy>.</cp:lastModifiedBy>
  <dcterms:modified xsi:type="dcterms:W3CDTF">2006-07-27T05:36:20Z</dcterms:modified>
  <cp:revision>3</cp:revision>
  <dc:subject/>
  <dc:title>Presentación de PowerPoint</dc:title>
</cp:coreProperties>
</file>