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14735175" cy="22439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7497-77D6-4CCC-9279-AD0C8B2F3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0D47-F13B-433D-834B-9623E82DD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6B4D-834C-4718-BE37-5D8785AEA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CAA5-F32B-4696-83BF-16F96A111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4AF0-5D02-4F10-B921-D9F3E81F1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B17E-5B04-444F-90F9-4061E6945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F5E9-8B1F-42FD-ACBC-4D1E156FD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A311-2E99-4281-AC0A-7D661404E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08E0-0BE6-4796-9EC0-A9A701327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11A5-3C95-47EC-8978-56F34C0C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5ABA-CA88-4ED5-8DFE-A0A5561D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965B-EED9-4B95-AE60-BD73921A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E34CE-6163-4C90-A652-32B024B8C2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-11160" y="0"/>
          <a:ext cx="6926400" cy="914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160" y="0"/>
                    <a:ext cx="69264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152280" y="7543800"/>
          <a:ext cx="1524240" cy="152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7543800"/>
                    <a:ext cx="152424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609480" y="228600"/>
            <a:ext cx="5715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Book Antiqua"/>
              </a:rPr>
              <a:t>COPA</a:t>
            </a:r>
            <a:r>
              <a:rPr b="1" lang="es-ES" sz="2400" spc="-1" strike="noStrike">
                <a:solidFill>
                  <a:srgbClr val="ffff00"/>
                </a:solidFill>
                <a:latin typeface="Book Antiqua"/>
              </a:rPr>
              <a:t> CHALLENGE</a:t>
            </a:r>
            <a:r>
              <a:rPr b="1" lang="es-AR" sz="2400" spc="-1" strike="noStrike">
                <a:solidFill>
                  <a:srgbClr val="ffff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Book Antiqua"/>
              </a:rPr>
              <a:t>“</a:t>
            </a:r>
            <a:r>
              <a:rPr b="1" lang="es-ES" sz="2400" spc="-1" strike="noStrike">
                <a:solidFill>
                  <a:srgbClr val="ffff00"/>
                </a:solidFill>
                <a:latin typeface="Book Antiqua"/>
                <a:ea typeface="Arial"/>
              </a:rPr>
              <a:t>EDMUNDO SOULE</a:t>
            </a:r>
            <a:r>
              <a:rPr b="1" lang="es-AR" sz="2400" spc="-1" strike="noStrike">
                <a:solidFill>
                  <a:srgbClr val="ffff00"/>
                </a:solidFill>
                <a:latin typeface="Book Antiqua"/>
                <a:ea typeface="Arial"/>
              </a:rPr>
              <a:t>” </a:t>
            </a:r>
            <a:r>
              <a:rPr b="1" lang="es-ES" sz="2400" spc="-1" strike="noStrike">
                <a:solidFill>
                  <a:srgbClr val="ffff00"/>
                </a:solidFill>
                <a:latin typeface="Book Antiqua"/>
                <a:ea typeface="Arial"/>
              </a:rPr>
              <a:t> </a:t>
            </a:r>
            <a:r>
              <a:rPr b="1" lang="es-AR" sz="2400" spc="-1" strike="noStrike">
                <a:solidFill>
                  <a:srgbClr val="ffff00"/>
                </a:solidFill>
                <a:latin typeface="Book Antiqua"/>
                <a:ea typeface="Arial"/>
              </a:rPr>
              <a:t>Edición </a:t>
            </a:r>
            <a:r>
              <a:rPr b="1" lang="es-ES" sz="2400" spc="-1" strike="noStrike">
                <a:solidFill>
                  <a:srgbClr val="ffff00"/>
                </a:solidFill>
                <a:latin typeface="Book Antiqua"/>
                <a:ea typeface="Arial"/>
              </a:rPr>
              <a:t>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Book Antiqua"/>
              </a:rPr>
              <a:t> </a:t>
            </a:r>
            <a:r>
              <a:rPr b="1" lang="es-ES" sz="2400" spc="-1" strike="noStrike">
                <a:solidFill>
                  <a:srgbClr val="ffff00"/>
                </a:solidFill>
                <a:latin typeface="Book Antiqua"/>
              </a:rPr>
              <a:t>I</a:t>
            </a:r>
            <a:r>
              <a:rPr b="1" lang="es-AR" sz="2400" spc="-1" strike="noStrike">
                <a:solidFill>
                  <a:srgbClr val="ffff00"/>
                </a:solidFill>
                <a:latin typeface="Book Antiqua"/>
              </a:rPr>
              <a:t>nter-promociones 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00"/>
                </a:solidFill>
                <a:latin typeface="Book Antiqua"/>
              </a:rPr>
              <a:t>Liceo Naval Militar Alte Br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807732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ffff"/>
                </a:solidFill>
                <a:latin typeface="Arial"/>
                <a:ea typeface="Arial"/>
              </a:rPr>
              <a:t>Autoridad organizador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ffff"/>
                </a:solidFill>
                <a:latin typeface="Arial"/>
                <a:ea typeface="Arial"/>
              </a:rPr>
              <a:t>CENTRO DE GRADUAD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ffff"/>
                </a:solidFill>
                <a:latin typeface="Arial"/>
                <a:ea typeface="Arial"/>
              </a:rPr>
              <a:t>DEL LICEO NAVAL ALTE. BR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2603520"/>
            <a:ext cx="6400800" cy="44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FECHA Y HORA:</a:t>
            </a:r>
            <a:r>
              <a:rPr b="0" lang="es-AR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 SÁBADO 17 DE MARZO DE 2007 – 10.30 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ELEGIBILIDAD:</a:t>
            </a:r>
            <a:r>
              <a:rPr b="0" lang="es-AR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 TRIPULACIÓN QUE HAYA SIDO DE UNA PROMOCIÓN DEL LNMAB – EXCEPCIÓN POSIBLE: DUEÑO DE BAR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RECORRI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BARLOVENTO SOTAVENTO DE 4 PIERNAS CON A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LARGADA INMEDIACIONES </a:t>
            </a:r>
            <a:r>
              <a:rPr b="0" lang="es-AR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 BOYA </a:t>
            </a:r>
            <a:r>
              <a:rPr b="0" lang="es-E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RECALADA NÚÑ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INSCRIPCIONES:</a:t>
            </a:r>
            <a:r>
              <a:rPr b="0" lang="es-AR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 por e-mail a: </a:t>
            </a:r>
            <a:r>
              <a:rPr b="0" lang="es-E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es-AR" sz="1800" spc="-1" strike="noStrike">
                <a:solidFill>
                  <a:srgbClr val="ff3300"/>
                </a:solidFill>
                <a:latin typeface="Times New Roman"/>
                <a:ea typeface="Arial Unicode MS"/>
              </a:rPr>
              <a:t>benegasm@fibertel.com.ar; </a:t>
            </a:r>
            <a:r>
              <a:rPr b="0" lang="es-E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o en la secretaria del C.G.L.N.M.</a:t>
            </a:r>
            <a:r>
              <a:rPr b="0" lang="es-AR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es-E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indicando número de vela, nombre del barco y tipo de barco, nombre de los tripulantes y </a:t>
            </a:r>
            <a:r>
              <a:rPr b="0" lang="es-AR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promoción</a:t>
            </a:r>
            <a:r>
              <a:rPr b="0" lang="es-E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COSTO:</a:t>
            </a:r>
            <a:r>
              <a:rPr b="0" lang="es-AR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 ningu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 u="sng">
                <a:solidFill>
                  <a:srgbClr val="ffffff"/>
                </a:solidFill>
                <a:uFillTx/>
                <a:latin typeface="Times New Roman"/>
                <a:ea typeface="Arial"/>
              </a:rPr>
              <a:t>PREM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COPA CHALLENGE </a:t>
            </a:r>
            <a:r>
              <a:rPr b="0" lang="es-AR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es-E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a la PROMOCION cuyo barco gane la clasificación gene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P</a:t>
            </a:r>
            <a:r>
              <a:rPr b="0" lang="es-E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remios a la promoción que más barcos presente, y se instituirán otros premios sorpres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5T13:13:04Z</dcterms:created>
  <dc:creator>Sistemas</dc:creator>
  <dc:description/>
  <dc:language>en-US</dc:language>
  <cp:lastModifiedBy>winxp_user</cp:lastModifiedBy>
  <dcterms:modified xsi:type="dcterms:W3CDTF">2007-02-03T15:36:02Z</dcterms:modified>
  <cp:revision>5</cp:revision>
  <dc:subject/>
  <dc:title>Presentación de PowerPoint</dc:title>
</cp:coreProperties>
</file>