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D1A-10BF-4389-AD08-A7D58254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3C7E-50B9-443C-B05F-3D49450D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602-068B-4FA2-98EC-C00B6FDF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8EC-961B-46B5-9755-026E722C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9E1-2B40-4E08-95F1-0361EDB4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439-C598-42C9-B1E6-29F7F215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251B-08E4-46F8-B75F-1A8467EA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D38A-41C2-4112-8781-A426B310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9C4-AF8C-494E-B712-449D7F17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573A-5F26-455A-82E9-034A09D2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7A4-7F7F-4DED-87C1-2FA29BE9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4B5-ACCC-41A7-A1EC-233A8BFE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6358-C8D6-4CA2-80D2-CA8984B82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97180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PEARL HARBO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1160"/>
            <a:ext cx="86868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7640"/>
            <a:ext cx="8534160" cy="68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2600"/>
            <a:ext cx="86868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41400"/>
            <a:ext cx="8534160" cy="67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4400"/>
            <a:ext cx="838224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6480"/>
            <a:ext cx="83822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9360"/>
            <a:ext cx="86868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90720"/>
            <a:ext cx="9051840" cy="16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792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 u="sng">
                <a:solidFill>
                  <a:srgbClr val="000000"/>
                </a:solidFill>
                <a:uFillTx/>
                <a:latin typeface="Arial Black"/>
                <a:ea typeface="Arial"/>
              </a:rPr>
              <a:t>Estas  fotos fueron encontradas en la taquilla de un marinero que prestaba servicios USS Quapa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2160" y="4114800"/>
            <a:ext cx="9051840" cy="21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792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 u="sng">
                <a:solidFill>
                  <a:srgbClr val="000000"/>
                </a:solidFill>
                <a:uFillTx/>
                <a:latin typeface="Arial Black"/>
                <a:ea typeface="Arial"/>
              </a:rPr>
              <a:t>       </a:t>
            </a:r>
            <a:r>
              <a:rPr b="0" lang="pt-PT" sz="3600" spc="-1" strike="noStrike" u="sng">
                <a:solidFill>
                  <a:srgbClr val="000000"/>
                </a:solidFill>
                <a:uFillTx/>
                <a:latin typeface="Arial Black"/>
                <a:ea typeface="Arial"/>
              </a:rPr>
              <a:t>La calidad de las fotos es sorprendente y el valor histórico inestimable porque fueron captadas durante el ataque a Pearl Harbo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440"/>
            <a:ext cx="86868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4400"/>
            <a:ext cx="8686800" cy="68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34880"/>
            <a:ext cx="9144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-11160"/>
            <a:ext cx="82296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-9360"/>
            <a:ext cx="853416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-41400"/>
            <a:ext cx="853416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3a"/>
            </a:gs>
            <a:gs pos="50000">
              <a:srgbClr val="00cc99"/>
            </a:gs>
            <a:gs pos="100000">
              <a:srgbClr val="004e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32040" y="0"/>
            <a:ext cx="547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8T17:19:33Z</dcterms:created>
  <dc:creator>CELIA REGINA</dc:creator>
  <dc:description/>
  <dc:language>en-US</dc:language>
  <cp:lastModifiedBy>usuario</cp:lastModifiedBy>
  <dcterms:modified xsi:type="dcterms:W3CDTF">2007-06-20T02:05:23Z</dcterms:modified>
  <cp:revision>5</cp:revision>
  <dc:subject/>
  <dc:title>Apresentação do PowerPoint</dc:title>
</cp:coreProperties>
</file>